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959-5F54-4E29-BEBD-6FE92C5B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2C3-2EE8-478D-A3CE-91577661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489-5DEE-412F-98A8-AE3C465C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619-BF00-476D-92D2-C00A8455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D3CF-E5EE-44B3-B383-AF5206D4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36A9-BE49-4B9F-84EE-199B5656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8C4D-B571-44B3-9856-1AA46B17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EC66-49FD-49F5-A2C5-7CCAE5A5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20BE-00E8-4EF6-B0A3-2D797AB9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1F5B-4F45-422B-8917-226AF520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648E-CBB1-45B2-A204-BE7D5C20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AF9-AE84-4436-A184-2DBE96A0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688D-D87D-4AA8-8A2E-85B95E3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6930-981D-4CAA-8DE6-0832ED02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FC18-3098-4E79-860F-206D1115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CBDB-732F-44EA-98E3-374C062F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E65B-3CDB-4281-8DE5-E69DC10F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D26-E3DB-41ED-A458-4C1B479E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135-6AC6-4333-95C0-495A825F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431-55C8-45A0-ABDE-BFB1F98B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6AC-BE50-4553-A776-DE54A011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0EF-405A-41AA-BF77-3FCC89E0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DAF-34DF-4933-AF02-F3DA647D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6D2-F56F-4892-B54C-7293B016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AE00-BE82-4331-8AFB-3A9D90676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7800" y="649116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4FB4-DF3C-4142-9308-F8B3B38B0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77800" y="649116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Web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设计</a:t>
            </a:r>
            <a:endParaRPr b="1" lang="en-US" sz="5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任课教师：郭健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Tel</a:t>
            </a: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：</a:t>
            </a: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13001356243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Email</a:t>
            </a: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：</a:t>
            </a:r>
            <a:r>
              <a:rPr b="0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guoj76@126.com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5264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与传统的高级语言一样</a:t>
            </a:r>
            <a:r>
              <a:rPr b="0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的地方</a:t>
            </a:r>
            <a:r>
              <a:rPr b="0" lang="en-US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变量或常量实现数据在内存中的存储，并使用变量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常量名（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实现了内存数据的按名存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等于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赋值运算符）给变量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允许直接访问一个未经初始化的变量，否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会提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ti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变量作用域的概念实现内存数据的安全访问控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入了数据类型的概念修饰和管理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与传统的高级语言不一样</a:t>
            </a:r>
            <a:r>
              <a:rPr b="0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的地方</a:t>
            </a:r>
            <a:r>
              <a:rPr b="0" lang="en-US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名之前要加美元符号“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识，例如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serNam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“弱类型的语言”，声明变量或常量时，不需要事先声明变量或常量的数据类型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自动由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根据变量的值将变量转换成适当的数据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分为四种：标量数据类型、复合数据类型、特殊数据类型和伪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量数据类型共有四种：布尔型、整型、浮点型和字符串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合数据类型共有两种：数组和对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数据类型有资源数据类型和空数据类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伪类型通常在函数的定义中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端的数据采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端数据的采集主要依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实现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是包含一系列表单元素的区域，表单元素是允许用户在表单中输入信息的元素。常见的表单元素有：文本域、下拉列表、单选框、复选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代码是简单的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代码，该表单的显示效果如图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2200" y="4508640"/>
            <a:ext cx="5905440" cy="20120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form action="register.php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 户 名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text" name="userName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amp;nbsp;&amp;nbsp;&amp;nbsp;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码 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password" name="password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认密码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password" name="confirmPassword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submit" value=" 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 交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reset" value=" 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填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2574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数据采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gister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负责采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交的数据，然后进行显示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3357720"/>
            <a:ext cx="7848720" cy="2438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 = $_GET["userName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 = $_GET["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 = $_GET["confirm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代码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值，并输出换行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user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passwor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confirmPasswor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后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gister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负责采集表单提交数据，然后对这些数据进行简单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2852640"/>
            <a:ext cx="5832360" cy="2864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 = $_GET["userName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 = $_GET["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 = $_GET["confirm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$password == $confirmPassword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可以注册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加密后的密码为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md5($passwor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else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输入的密码和确认密码不一致，请重新注册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的输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常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向浏览器输出字符串数据，除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外，还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向浏览器输出字符串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出的是没有经过格式化的字符串，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则是输出经过格式化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复合数据类型的数据（如数组或对象），可选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_r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输出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块中只嵌入一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且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是一条输出语句，此时可以使用输出运算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= ?&gt;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出字符串数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码规范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写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缩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大括号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87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名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数据库表字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类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代码添加注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开发是一种高级脑力劳动，精妙的算法之后往往伴随着难以理解的代码，对于不经常维护的代码，往往连开发者本人也忘记编写的初衷。要为代码添加注释，增强代码的可读性和可维护性。有时添加注释和编写代码一样难，但养成这样的习惯是必要的。请记住：尽最大努力把方便留给别人和将来的自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第二章 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基础</a:t>
            </a:r>
            <a:endParaRPr b="1" lang="en-US" sz="5400" spc="-1" strike="noStrike">
              <a:solidFill>
                <a:srgbClr val="ff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开发工具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记事本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Notepad++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NetBeans ID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第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章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基础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.1 PHP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代码基本语法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.2 PHP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程序的组成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.3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编码规范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052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在服务器端执行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嵌式的脚本语言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可以嵌入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中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也可嵌入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中，例如，程序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WithPHP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2119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标记与结束标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script language="php"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script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%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持如下三种注释风格（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nnotation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行注释风格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风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#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风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3357720"/>
            <a:ext cx="6481800" cy="32907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行注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依次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 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行符   系统当前时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hello world!";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#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date("Y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;//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系统当前时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!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在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标签和结束标签之外的代码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演示的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注释风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释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注释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及语句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一般由若干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构成，每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完成某项操作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每条语句以英文分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，只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标记之前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省略结尾分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多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之间密不可分，可以使用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这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包含起来形成语句块。单独使用语句块时没有任何意义，语句块只有和条件控制语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-e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循环语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函数等一起使用时才有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功能的角度，完整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可以划分为三个组成部分：数据的采集、数据的处理和数据的输出，其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据采集主要包括三个过程：浏览器端的数据采集、浏览器端数据的提交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数据采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dc:language>en-US</dc:language>
  <cp:lastModifiedBy>User</cp:lastModifiedBy>
  <cp:lastPrinted>1899-12-30T00:00:00Z</cp:lastPrinted>
  <dcterms:modified xsi:type="dcterms:W3CDTF">2011-09-06T01:13:23Z</dcterms:modified>
  <cp:revision>249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