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89B-BE7D-4A4E-BCFA-2C7C565B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135-ECF6-410A-8225-9927A7BE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90A-9BD3-4EA0-BC77-BA75EAAF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23B-3122-44C3-BC0C-169189C0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5CA-0D6E-4D93-B90C-6BF7BDAA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25F-0FF9-426E-A2B1-4E392AAF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F6D-CC9F-46AD-8761-B85A81A3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7EF-3ECB-4353-B4AE-526513A0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F75-03B0-47C8-A1A0-E49A8E01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9D3-7FB4-4B50-B766-1EE68475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33B-6E24-4565-AB48-A5861908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799-DD34-41D0-9894-92103CE3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未知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未知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未知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未知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未知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未知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F88A-4877-41F3-8629-868FBE59BAA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1440" y="20520"/>
            <a:ext cx="9138960" cy="6858000"/>
            <a:chOff x="-1440" y="20520"/>
            <a:chExt cx="9138960" cy="6858000"/>
          </a:xfrm>
        </p:grpSpPr>
        <p:sp>
          <p:nvSpPr>
            <p:cNvPr id="62" name="未知"/>
            <p:cNvSpPr/>
            <p:nvPr/>
          </p:nvSpPr>
          <p:spPr>
            <a:xfrm>
              <a:off x="-1440" y="4897440"/>
              <a:ext cx="913896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-1440" y="20520"/>
              <a:ext cx="913896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未知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6033960"/>
            <a:ext cx="7842960" cy="851040"/>
            <a:chOff x="0" y="6033960"/>
            <a:chExt cx="7842960" cy="851040"/>
          </a:xfrm>
        </p:grpSpPr>
        <p:sp>
          <p:nvSpPr>
            <p:cNvPr id="66" name="未知"/>
            <p:cNvSpPr/>
            <p:nvPr/>
          </p:nvSpPr>
          <p:spPr>
            <a:xfrm>
              <a:off x="2361600" y="6033960"/>
              <a:ext cx="514188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5600" y="6033960"/>
              <a:ext cx="3897360" cy="851040"/>
              <a:chOff x="3945600" y="6033960"/>
              <a:chExt cx="3897360" cy="851040"/>
            </a:xfrm>
          </p:grpSpPr>
          <p:sp>
            <p:nvSpPr>
              <p:cNvPr id="68" name="未知"/>
              <p:cNvSpPr/>
              <p:nvPr/>
            </p:nvSpPr>
            <p:spPr>
              <a:xfrm>
                <a:off x="6265800" y="6045120"/>
                <a:ext cx="157716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424836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480888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5757840" y="6151320"/>
                <a:ext cx="24552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3945600" y="6140160"/>
                <a:ext cx="6624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未知"/>
            <p:cNvSpPr/>
            <p:nvPr/>
          </p:nvSpPr>
          <p:spPr>
            <a:xfrm>
              <a:off x="0" y="6033960"/>
              <a:ext cx="63100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未知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ML/02_&#22312;HTML&#26631;&#35760;&#20013;&#30452;&#25509;&#23884;&#20837;&#26679;&#24335;.HTM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ML/03_&#22312;HTML&#30340;&#39318;&#37096;&#23450;&#20041;&#26679;&#24335;&#20449;&#24687;.HTM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ML/04_&#38142;&#25509;&#22806;&#37096;&#26679;&#24335;&#34920;&#25991;&#20214;.HTM" TargetMode="External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ML/&#30334;&#20998;&#27604;&#21333;&#20301;.htm" TargetMode="External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ML/08_&#25991;&#26412;&#23646;&#24615;.htm" TargetMode="External"/><Relationship Id="rId2" Type="http://schemas.openxmlformats.org/officeDocument/2006/relationships/hyperlink" Target="HTML/a&#26631;&#35760;css.htm" TargetMode="External"/><Relationship Id="rId3" Type="http://schemas.openxmlformats.org/officeDocument/2006/relationships/hyperlink" Target="HTML\&#26032;&#28010;&#39318;&#39029;.htm" TargetMode="External"/><Relationship Id="rId4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ML/05_&#36793;&#30028;&#12289;&#36793;&#26694;&#21644;&#22635;&#20805;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ML/06_&#28014;&#21160;&#23646;&#24615;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ML/07_&#23450;&#20301;&#23646;&#24615;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ML/09_&#25991;&#26412;&#30340;&#28388;&#38236;&#25928;&#26524;.htm" TargetMode="External"/><Relationship Id="rId2" Type="http://schemas.openxmlformats.org/officeDocument/2006/relationships/hyperlink" Target="HTML/10_&#23545;&#22270;&#29255;&#24212;&#29992;&#28388;&#38236;&#25928;&#26524;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chapter 3/3_1.htm" TargetMode="External"/><Relationship Id="rId2" Type="http://schemas.openxmlformats.org/officeDocument/2006/relationships/hyperlink" Target="chapter 3/3_1.htm" TargetMode="External"/><Relationship Id="rId3" Type="http://schemas.openxmlformats.org/officeDocument/2006/relationships/hyperlink" Target="chapter 3/3_2.htm" TargetMode="External"/><Relationship Id="rId4" Type="http://schemas.openxmlformats.org/officeDocument/2006/relationships/hyperlink" Target="chapter 3/3_2.htm" TargetMode="External"/><Relationship Id="rId5" Type="http://schemas.openxmlformats.org/officeDocument/2006/relationships/hyperlink" Target="HTML/01_CSS&#29305;&#28857;1.HTM" TargetMode="External"/><Relationship Id="rId6" Type="http://schemas.openxmlformats.org/officeDocument/2006/relationships/hyperlink" Target="HTML/01_CSS&#29305;&#28857;1.HTM" TargetMode="External"/><Relationship Id="rId7" Type="http://schemas.openxmlformats.org/officeDocument/2006/relationships/hyperlink" Target="HTML/01_CSS&#29305;&#28857;2.HTM" TargetMode="External"/><Relationship Id="rId8" Type="http://schemas.openxmlformats.org/officeDocument/2006/relationships/hyperlink" Target="HTML/01_CSS&#29305;&#28857;2.HTM" TargetMode="External"/><Relationship Id="rId9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762120"/>
            <a:ext cx="793116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TML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标记的不足之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代码繁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格式的一致性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可维护性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网页现实效果缺乏动态性与交互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268280"/>
            <a:ext cx="8820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2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定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为用户自定义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自定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格式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ID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如：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yellow {color : yellow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引用如下所示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P ID=yellow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本段为黄色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/P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H2 ID=yellow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本标题为黄色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/H2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2360" y="1268280"/>
            <a:ext cx="8642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3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网页中使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标记中直接插入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符中使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l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可以直接定义样式信息，格式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标记符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yle = “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;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;……”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例如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lt;H1 style=“font-family: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黑体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lor:red”&gt;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嵌入样式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1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2360" y="1197000"/>
            <a:ext cx="86425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240" indent="2232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3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网页中使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22320">
              <a:spcBef>
                <a:spcPts val="1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文档的头部插入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2232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档的头部定义样式信息，是指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HEAD&gt;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/HEAD&gt;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之间，使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L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将同类样式统一定义，然后再具体应用于网页中的元素。其定义样式的格式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2232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2232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2360" y="1341360"/>
            <a:ext cx="8569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9360" indent="-9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3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网页中使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360" indent="-936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链接外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文件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360" indent="-9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步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信息存储到“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CSS 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件中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360" indent="-9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步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HEAD&gt;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内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K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链接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，格式为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360" indent="-9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lt;LINK rel=“stylesheet”  type=“text/css”  href=“ *.CSS "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360" indent="-9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360" indent="-9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1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1080" y="1341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.1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的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长度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4360" y="2924280"/>
          <a:ext cx="7705440" cy="3098520"/>
        </p:xfrm>
        <a:graphic>
          <a:graphicData uri="http://schemas.openxmlformats.org/drawingml/2006/table">
            <a:tbl>
              <a:tblPr/>
              <a:tblGrid>
                <a:gridCol w="786960"/>
                <a:gridCol w="1569960"/>
                <a:gridCol w="1244880"/>
                <a:gridCol w="4103640"/>
              </a:tblGrid>
              <a:tr h="649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单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厘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英寸，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in = 2.54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毫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点，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pt = 1 / 72 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像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c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皮卡，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pc = 12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05264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.1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的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百分比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个百分比值由可选的正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或负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紧跟一个数字，最后为百分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%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而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号可以忽略不写，百分比单位中不可以有空格。百分比值是相对于其它数值来说的。例如：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{line-height:200%}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表示该段文字的高度为标准行高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6421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.1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的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颜色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颜色名称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llow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等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十六进制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格式为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rrggbb 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例如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9966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十进制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格式为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gb(x,x,x) 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间的整数，例如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gb(255,0,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百分比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格式为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gb(y%,y%,y%) 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间的整数，例如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gb(100%,0%,0%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1125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2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字体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字体属性用于设置网页中的字符的显示方式，如字符的大小、粗细和字体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t-family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于设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元素的字体列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1{font-family: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楷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gb2312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黑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斜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t-styl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来设置指定元素的字形样式。其值可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l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普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alic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斜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lique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偏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1{font-style: oblique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05264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2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字体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t-varian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于在正常与小型大写字母字体间切换。其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缺省值，表示正常字体；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-cap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表示小型大写字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2{ font-variant: small-caps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t-weigh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来设置字体的粗细。值可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缺省）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lder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hter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1 { font-weight: 800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05264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2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字体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t-siz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来控制字体显示的大小，属性值见教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1 { font-size: large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 { font-size: 12pt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 { font-size: 90%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来一次性设置前面介绍的各种字体属性，属性间以空格分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{font:bold italic 12pt}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905120"/>
            <a:ext cx="7777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层叠样式表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scading Style Shee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19700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3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文本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本属性用于控制文本的段落格式，例如设置首行缩进、段落对齐方式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字母间隔属性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tter-spacing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单词间隔属性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d-spacing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行高属性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line-heigh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文本修饰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text-decor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取值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derline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下划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line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上划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e-through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删除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ink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闪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e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无修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缺省值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05264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240" indent="-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3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文本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文本水平对齐属性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text-alig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取值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f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gh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文本纵向对齐属性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vertical-alig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文本转换属性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xt-transform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首行缩进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text-indent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新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05264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.4.4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颜色和背景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颜色属性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背景颜色属性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ackground-col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背景图案属性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ackground-im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背景重复方式属性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ackground-repe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背景附件属性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ackground-attach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背景位置属性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ground-positio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背景属性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1052640"/>
            <a:ext cx="85690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9360" indent="111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360" indent="111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5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边框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360" indent="11160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边框宽度属性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rder-left-widt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right-widt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top-widt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bottom-widt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属性分别用于定义左、右、上、下边框的宽度，它们的取值可以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|medium|thick|leng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360" indent="1116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边框颜色属性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left-colo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right-colo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top-colo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bottom-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360" indent="1116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边框样式属性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rder-left-styl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right-styl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top-styl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bottom-styl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属性分别定义左、右、上、下边框的样式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tted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hed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ov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g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e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为该属性的取值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052640"/>
            <a:ext cx="85690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5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边框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258920" y="2421000"/>
            <a:ext cx="5067360" cy="3228840"/>
            <a:chOff x="1258920" y="2421000"/>
            <a:chExt cx="5067360" cy="322884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1982880" y="2421000"/>
              <a:ext cx="4343400" cy="32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258920" y="3807000"/>
              <a:ext cx="4064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边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58920" y="4599000"/>
              <a:ext cx="4651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填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068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54360" y="4395960"/>
              <a:ext cx="71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24040" y="4789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2160" y="41497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边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05264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6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浮动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059280" y="1341360"/>
            <a:ext cx="5400360" cy="4572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052640"/>
            <a:ext cx="8496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.7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定位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7416720" cy="3833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197000"/>
            <a:ext cx="84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滤镜技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835280" y="1989000"/>
            <a:ext cx="4066920" cy="3695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1447920"/>
            <a:ext cx="8915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四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v + 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div id="container"&gt;[color=#aaaaaa]&lt;!--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页面层容器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--&gt;[/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lor]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div id="Header"&gt;[color=#aaaaaa]&lt;!--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页面头部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--&gt;[/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lor]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/div&gt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div id="PageBody"&gt;[color=#aaaaaa]&lt;!--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页面主体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--&gt;[/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lor]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div id="Sidebar"&gt;[color=#aaaaaa]&lt;!--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侧边栏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--&gt;[/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lor]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/div&gt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div id="MainBody"&gt;[color=#aaaaaa]&lt;!--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主体内容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--&gt;[/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lor]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/div&gt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/div&gt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div id="Footer"&gt;[color=#aaaaaa]&lt;!--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页面底部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--&gt;[/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lor]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/div&gt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技术基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844640"/>
            <a:ext cx="777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cading Style Shee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层叠样式表）技术是一种格式化网页的标准方式，它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功能的扩展，使网页设计者能够以更有效的方式设计出更具表现力的网页效果。下面将较为详细的介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定义方法、属性及其应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0360" y="1557000"/>
            <a:ext cx="656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1   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   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样式定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3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网页中应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4   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5   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滤镜技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341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1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特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简化了网页格式设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增强了网页的可维护性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加强了网页的表现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增强了网站格式的一致性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举例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举例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举例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77760" indent="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2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定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个样式表由样式规则组成，以告诉浏览器怎样去显示一个文档。样式规则的一般格式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以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、用户自定义类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或用户自定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的不同属性间用“；”分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与属性之间用“：”分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052640"/>
            <a:ext cx="8497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77760" indent="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2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定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0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标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符是最基本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我们可以为一个或几个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符应用样式表定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1 { font-size: large; color: red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2 { font-size: large; color: red }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{color:red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具有相同样式的不同标记，可采用组合样式定义。例如，对上面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，可定义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1,H2 {font-size: large; color: r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981000"/>
            <a:ext cx="88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2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定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为用户自定义类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同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指定多个样式，定义格式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样式符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类名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: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；属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 :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；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如：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DE . html { color :  red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DE . css { color :  green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引用方法为 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=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类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CODE class=html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红色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代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/CODE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CODE class=css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色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代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/CODE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2360" y="1197000"/>
            <a:ext cx="882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2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定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为用户自定义类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不同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定义同一样式，定义格式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类名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: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；属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 :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；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如：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note1 {color : red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note2 {color : green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引用如下所示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P class=note1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本行文字为红色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/P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H2 class=note1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本标题为红色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/H2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06:43:14Z</dcterms:created>
  <dc:creator>zyl</dc:creator>
  <dc:description/>
  <dc:language>en-US</dc:language>
  <cp:lastModifiedBy>guo</cp:lastModifiedBy>
  <dcterms:modified xsi:type="dcterms:W3CDTF">2008-04-09T22:55:36Z</dcterms:modified>
  <cp:revision>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  <property fmtid="{D5CDD505-2E9C-101B-9397-08002B2CF9AE}" pid="3" name="Version">
    <vt:r8>8</vt:r8>
  </property>
</Properties>
</file>