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123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A0C-F939-413F-BCB4-90E5295A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CD5-16AB-42D7-ABAA-F5CF0E8D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F0F-EBE0-4834-B879-0E86E9A4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2E0-CF39-4C41-B6BA-306D6D2B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E11-43D7-4D87-A602-8287370C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0E5F-0ECE-4814-8884-596BB7CB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5DC-6DA5-4E0F-929B-BDE2C486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51E-ACA4-4D24-8F6F-86C8D76E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3E9-4FEE-4CA2-A19B-3DDA9002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2F9-FAFC-4BEC-9302-42711552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27F-8E9F-419E-BB5F-715A7100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D4A-2031-4213-BA10-85D741B4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68200" y="7826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EA65-4A70-4DBA-8DBA-66CF9D5C853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009000" cy="1052640"/>
            <a:chOff x="0" y="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08000"/>
              <a:ext cx="711360" cy="474480"/>
              <a:chOff x="290520" y="10800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0800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080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530280"/>
              <a:ext cx="737640" cy="474480"/>
              <a:chOff x="414360" y="53028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53028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5302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457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821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hyperlink" Target="Examples/form5.htm" TargetMode="External"/><Relationship Id="rId2" Type="http://schemas.openxmlformats.org/officeDocument/2006/relationships/slideLayout" Target="../slideLayouts/slideLayout1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hyperlink" Target="Examples/&#29992;&#25143;&#36523;&#20221;&#21028;&#21035;.htm" TargetMode="External"/><Relationship Id="rId2" Type="http://schemas.openxmlformats.org/officeDocument/2006/relationships/hyperlink" Target="Examples/&#22312;&#32447;&#27979;&#35797;.htm" TargetMode="External"/><Relationship Id="rId3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Examples/form7.htm" TargetMode="External"/><Relationship Id="rId2" Type="http://schemas.openxmlformats.org/officeDocument/2006/relationships/slideLayout" Target="../slideLayouts/slideLayout14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11_&#25968;&#25454;&#31867;&#22411;&#33258;&#21160;&#36716;&#25442;.htm" TargetMode="External"/><Relationship Id="rId3" Type="http://schemas.openxmlformats.org/officeDocument/2006/relationships/slideLayout" Target="../slideLayouts/slideLayout1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hyperlink" Target="Examples/form8.htm" TargetMode="External"/><Relationship Id="rId7" Type="http://schemas.openxmlformats.org/officeDocument/2006/relationships/hyperlink" Target="Examples/form8.htm" TargetMode="External"/><Relationship Id="rId8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Examples/12_&#25968;&#25454;&#31867;&#22411;&#36716;&#25442;&#20989;&#25968;.htm" TargetMode="External"/><Relationship Id="rId5" Type="http://schemas.openxmlformats.org/officeDocument/2006/relationships/slideLayout" Target="../slideLayouts/slideLayout14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Examples/13_&#27604;&#36739;&#36816;&#31639;&#31526;.htm" TargetMode="Externa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Examples/14_&#31639;&#26415;&#36816;&#31639;&#31526;.ht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Examples/15_&#26465;&#20214;&#36816;&#31639;&#31526;.htm" TargetMode="External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Examples/16_delete&#36816;&#31639;&#31526;.htm" TargetMode="External"/><Relationship Id="rId2" Type="http://schemas.openxmlformats.org/officeDocument/2006/relationships/hyperlink" Target="Examples/17_typeof&#36816;&#31639;&#31526;.htm" TargetMode="External"/><Relationship Id="rId3" Type="http://schemas.openxmlformats.org/officeDocument/2006/relationships/hyperlink" Target="Examples/18_this&#36816;&#31639;&#31526;.htm" TargetMode="External"/><Relationship Id="rId4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Examples/19_if&#35821;&#21477;.htm" TargetMode="External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Examples\for_in.htm" TargetMode="External"/><Relationship Id="rId2" Type="http://schemas.openxmlformats.org/officeDocument/2006/relationships/hyperlink" Target="Examples\110_FOR IN&#35821;&#21477;.HTM" TargetMode="External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Examples\&#21028;&#26029;&#32032;&#25968;.htm" TargetMode="External"/><Relationship Id="rId5" Type="http://schemas.openxmlformats.org/officeDocument/2006/relationships/hyperlink" Target="Examples\&#21028;&#26029;&#28070;&#24180;.htm" TargetMode="External"/><Relationship Id="rId6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&#20107;&#20214;&#22788;&#29702;1.htm" TargetMode="External"/><Relationship Id="rId3" Type="http://schemas.openxmlformats.org/officeDocument/2006/relationships/hyperlink" Target="Examples/&#20107;&#20214;&#22788;&#29702;2.htm" TargetMode="External"/><Relationship Id="rId4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Examples/&#20107;&#20214;&#22788;&#29702;3.htm" TargetMode="External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Examples/&#20107;&#20214;&#22788;&#29702;4.htm" TargetMode="External"/><Relationship Id="rId2" Type="http://schemas.openxmlformats.org/officeDocument/2006/relationships/hyperlink" Target="Examples/&#20107;&#20214;&#22788;&#29702;4.htm" TargetMode="External"/><Relationship Id="rId3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Examples/21_&#25968;&#32452;&#23545;&#35937;.HTM" TargetMode="External"/><Relationship Id="rId2" Type="http://schemas.openxmlformats.org/officeDocument/2006/relationships/hyperlink" Target="Examples/21_&#25968;&#32452;&#23545;&#35937;.HTM" TargetMode="External"/><Relationship Id="rId3" Type="http://schemas.openxmlformats.org/officeDocument/2006/relationships/hyperlink" Target="Examples/21_&#25968;&#32452;&#23545;&#35937;.HTM" TargetMode="External"/><Relationship Id="rId4" Type="http://schemas.openxmlformats.org/officeDocument/2006/relationships/hyperlink" Target="Examples/22_&#20108;&#32500;&#25968;&#32452;.HTM" TargetMode="External"/><Relationship Id="rId5" Type="http://schemas.openxmlformats.org/officeDocument/2006/relationships/hyperlink" Target="Examples/22_&#20108;&#32500;&#25968;&#32452;.HTM" TargetMode="External"/><Relationship Id="rId6" Type="http://schemas.openxmlformats.org/officeDocument/2006/relationships/hyperlink" Target="Examples/22_&#20108;&#32500;&#25968;&#32452;.HTM" TargetMode="External"/><Relationship Id="rId7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256,-1,NEXT" TargetMode="External"/><Relationship Id="rId2" Type="http://schemas.openxmlformats.org/officeDocument/2006/relationships/hyperlink" Target="Examples/String.length&#27979;&#35797;.htm" TargetMode="External"/><Relationship Id="rId3" Type="http://schemas.openxmlformats.org/officeDocument/2006/relationships/hyperlink" Target="Examples/String.length&#27979;&#35797;.htm" TargetMode="External"/><Relationship Id="rId4" Type="http://schemas.openxmlformats.org/officeDocument/2006/relationships/hyperlink" Target="Examples/String.length&#27979;&#35797;.htm" TargetMode="External"/><Relationship Id="rId5" Type="http://schemas.openxmlformats.org/officeDocument/2006/relationships/hyperlink" Target="Examples/String.length&#27979;&#35797;.htm" TargetMode="External"/><Relationship Id="rId6" Type="http://schemas.openxmlformats.org/officeDocument/2006/relationships/hyperlink" Target="Examples/23_&#23383;&#31526;&#20018;&#23545;&#35937;.htm" TargetMode="External"/><Relationship Id="rId7" Type="http://schemas.openxmlformats.org/officeDocument/2006/relationships/hyperlink" Target="Examples/23_&#23383;&#31526;&#20018;&#23545;&#35937;.htm" TargetMode="External"/><Relationship Id="rId8" Type="http://schemas.openxmlformats.org/officeDocument/2006/relationships/hyperlink" Target="Examples/&#22823;&#23567;&#20889;&#36716;&#25442;.htm" TargetMode="External"/><Relationship Id="rId9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256,-1,PREV" TargetMode="External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Examples\&#40736;&#26631;&#29305;&#25928;.htm" TargetMode="External"/><Relationship Id="rId6" Type="http://schemas.openxmlformats.org/officeDocument/2006/relationships/hyperlink" Target="Examples\form10.HTM" TargetMode="External"/><Relationship Id="rId7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Examples/Date&#23545;&#35937;&#26041;&#27861;&#27979;&#35797;.htm" TargetMode="External"/><Relationship Id="rId2" Type="http://schemas.openxmlformats.org/officeDocument/2006/relationships/hyperlink" Target="Examples/24_&#26085;&#26399;&#23545;&#35937;1.htm" TargetMode="External"/><Relationship Id="rId3" Type="http://schemas.openxmlformats.org/officeDocument/2006/relationships/hyperlink" Target="Examples/24_&#26085;&#26399;&#23545;&#35937;2.htm" TargetMode="External"/><Relationship Id="rId4" Type="http://schemas.openxmlformats.org/officeDocument/2006/relationships/hyperlink" Target="Examples/&#20498;&#35745;&#26102;.htm" TargetMode="External"/><Relationship Id="rId5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Examples/25_&#29992;&#25143;&#33258;&#23450;&#20041;&#23545;&#35937;.htm" TargetMode="External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Examples/26_&#20316;&#19994;1.htm" TargetMode="External"/><Relationship Id="rId2" Type="http://schemas.openxmlformats.org/officeDocument/2006/relationships/hyperlink" Target="Examples/26_&#20316;&#19994;2.htm" TargetMode="External"/><Relationship Id="rId3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&#35821;&#27861;1.HTM" TargetMode="External"/><Relationship Id="rId3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Examples/&#39029;&#38754;&#19979;&#33853;&#25928;&#26524;.htm" TargetMode="External"/><Relationship Id="rId2" Type="http://schemas.openxmlformats.org/officeDocument/2006/relationships/hyperlink" Target="Examples/WINDOW2.htm" TargetMode="External"/><Relationship Id="rId3" Type="http://schemas.openxmlformats.org/officeDocument/2006/relationships/hyperlink" Target="Examples/WINDOW3.htm" TargetMode="External"/><Relationship Id="rId4" Type="http://schemas.openxmlformats.org/officeDocument/2006/relationships/hyperlink" Target="Examples/WINDOW3.htm" TargetMode="External"/><Relationship Id="rId5" Type="http://schemas.openxmlformats.org/officeDocument/2006/relationships/hyperlink" Target="Examples/WINDOW4.htm" TargetMode="External"/><Relationship Id="rId6" Type="http://schemas.openxmlformats.org/officeDocument/2006/relationships/hyperlink" Target="Examples/WINDOW4.htm" TargetMode="External"/><Relationship Id="rId7" Type="http://schemas.openxmlformats.org/officeDocument/2006/relationships/hyperlink" Target="Examples/WINDOW5.htm" TargetMode="External"/><Relationship Id="rId8" Type="http://schemas.openxmlformats.org/officeDocument/2006/relationships/hyperlink" Target="Examples/WINDOW5.htm" TargetMode="External"/><Relationship Id="rId9" Type="http://schemas.openxmlformats.org/officeDocument/2006/relationships/hyperlink" Target="Examples/WINDOW6.htm" TargetMode="External"/><Relationship Id="rId10" Type="http://schemas.openxmlformats.org/officeDocument/2006/relationships/hyperlink" Target="Examples/WINDOW6.htm" TargetMode="External"/><Relationship Id="rId1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Examples/history1.htm" TargetMode="External"/><Relationship Id="rId5" Type="http://schemas.openxmlformats.org/officeDocument/2006/relationships/hyperlink" Target="Examples/history1.htm" TargetMode="External"/><Relationship Id="rId6" Type="http://schemas.openxmlformats.org/officeDocument/2006/relationships/hyperlink" Target="325,68,&#24187;&#28783;&#29255; 68" TargetMode="External"/><Relationship Id="rId7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256,-1,PREV" TargetMode="External"/><Relationship Id="rId2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&#35821;&#27861;2.htm" TargetMode="External"/><Relationship Id="rId3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Examples/LOCATION2.HTM" TargetMode="External"/><Relationship Id="rId4" Type="http://schemas.openxmlformats.org/officeDocument/2006/relationships/hyperlink" Target="Examples/LOCATION2.HTM" TargetMode="External"/><Relationship Id="rId5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Examples/index.HTM" TargetMode="External"/><Relationship Id="rId2" Type="http://schemas.openxmlformats.org/officeDocument/2006/relationships/hyperlink" Target="Examples/index.HTM" TargetMode="External"/><Relationship Id="rId3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Examples/DOCUMENT1.HTM" TargetMode="External"/><Relationship Id="rId4" Type="http://schemas.openxmlformats.org/officeDocument/2006/relationships/hyperlink" Target="Examples/DOCUMENT1.HTM" TargetMode="External"/><Relationship Id="rId5" Type="http://schemas.openxmlformats.org/officeDocument/2006/relationships/hyperlink" Target="Examples/DOCUMENT2.HTM" TargetMode="External"/><Relationship Id="rId6" Type="http://schemas.openxmlformats.org/officeDocument/2006/relationships/hyperlink" Target="Examples/DOCUMENT2.HTM" TargetMode="External"/><Relationship Id="rId7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Examples/LINKS.HTM" TargetMode="External"/><Relationship Id="rId6" Type="http://schemas.openxmlformats.org/officeDocument/2006/relationships/hyperlink" Target="Examples/LINKS.HTM" TargetMode="External"/><Relationship Id="rId7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Examples/form1.HTM" TargetMode="External"/><Relationship Id="rId2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hyperlink" Target="Examples/form2.htm" TargetMode="External"/><Relationship Id="rId2" Type="http://schemas.openxmlformats.org/officeDocument/2006/relationships/hyperlink" Target="Examples/form2.htm" TargetMode="External"/><Relationship Id="rId3" Type="http://schemas.openxmlformats.org/officeDocument/2006/relationships/hyperlink" Target="Examples/form3.htm" TargetMode="External"/><Relationship Id="rId4" Type="http://schemas.openxmlformats.org/officeDocument/2006/relationships/hyperlink" Target="Examples/form4.htm" TargetMode="External"/><Relationship Id="rId5" Type="http://schemas.openxmlformats.org/officeDocument/2006/relationships/hyperlink" Target="Examples/form4.htm" TargetMode="External"/><Relationship Id="rId6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42920" y="260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第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章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268280"/>
            <a:ext cx="7490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主要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编程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事件驱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内置对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浏览器对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62864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数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Number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包含整数或浮点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逻辑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Logical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取值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字符串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String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用单引号或双引号括起来的零个或多个单一的字符所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空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null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表示没有值，取唯一值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ll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大小写敏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未定义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undefined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表示尚未定义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ff"/>
                </a:solidFill>
                <a:latin typeface="Tahoma"/>
              </a:rPr>
              <a:t>注：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</a:rPr>
              <a:t>不能写成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</a:rPr>
              <a:t>或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</a:rPr>
              <a:t>既不等于“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0”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</a:rPr>
              <a:t>，也不等于“空字符串”。因为“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0”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</a:rPr>
              <a:t>是数值，“空字符串”是字符串。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数据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187280" y="907920"/>
            <a:ext cx="770580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ahoma"/>
              </a:rPr>
              <a:t>例：多行文本对象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Scrip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.title = "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多行文本对象示例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unction isTooLong(elm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(elm.length &gt; 5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lert("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留言内容太长，请修改后再发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..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swin=open("","","300,300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swin.document.write(elm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FORM onSubmit="return isTooLong(this.msg.value)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TEXTAREA NAME="msg" COLS="30" ROWS="5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Focus="this.value=''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欢迎留言，不过请长话短说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...&lt;/textarea&gt;&lt;B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INPUT TYPE="submit" VALUE="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留言完毕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/FORM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运行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多行文本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adio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时，自动建立一个单选按钮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使用按钮对象的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单选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单选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单选按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设置该对象的选取状态，为一个布尔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Checke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应该对象的默认选取状态，为一个布尔变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所在的表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lick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在该对象上单击鼠标左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单选按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单选按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250920" y="907920"/>
            <a:ext cx="889308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例1：判断用户身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例2：在线考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单选按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box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时，自动建立一个复选框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使用复选框对象的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复选框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复选框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e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设置该对象的选取状态，为一个布尔变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Check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应该对象的默认选取状态，为一个布尔变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所在的表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lick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再该对象上单击鼠标左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举例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选择颜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unction count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r checkCount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r num = document.form1.elements.lengt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(var i=0; i&lt;num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f (document.form1.elements[i].chec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eckCount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lert ("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你喜欢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"+ checkCount + "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种颜色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FORM NAME=form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请选择你喜欢的颜色：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B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checkbox" NAME="red"&gt;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红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checkbox" NAME="green"&gt;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绿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checkbox" NAME="blue"&gt;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蓝色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B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button" VALUE="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请单击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" onClick=count(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/FORM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运行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SELEC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时，自动建立一个下拉列表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使用选择对象的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选择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选择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下拉列表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1700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自动数据类型转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如果表达式中用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运算符，且其中一个操作数为字符串，另一个操作数为数值时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自动将数值转成字符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例如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ar x=”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我今年”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+18;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=“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我今年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8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var x=”15”+8  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x=1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var y=15+8;   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y=2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如果表达式中用了其它运算符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自动将字符串转成数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如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ar x=”30”/5;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ar y=”15”-“8”;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=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数据类型转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对象所在的表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ength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代表列表中选项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Option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数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options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应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语法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OPTION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edIndex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代表所选择项目的索引值（选到第一项，返回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下拉列表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下拉列表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建立选项对象的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w Option(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 , defaultSelected [ , selected ] ] ] 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其中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“文字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代表显示在列表中的文字字符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值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也就是选中后，传到服务器上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Selected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指定默认选中该选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“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ed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指定选中该选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选项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faultSelected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指定该选项为默认选择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ex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有选项所构成的数组索引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ngth    Select.option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数组的元素个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选项的数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ected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判断该选项是否被选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xt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选项所显示的文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选中后，传到服务器上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3.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选项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50920" y="90792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逐行检查是否填如数据，如未填写，应提示用户填写，如下图所示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作业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763640" y="1989000"/>
            <a:ext cx="5974920" cy="4248360"/>
            <a:chOff x="1763640" y="1989000"/>
            <a:chExt cx="5974920" cy="4248360"/>
          </a:xfrm>
        </p:grpSpPr>
        <p:pic>
          <p:nvPicPr>
            <p:cNvPr id="499" name="" descr=""/>
            <p:cNvPicPr/>
            <p:nvPr/>
          </p:nvPicPr>
          <p:blipFill>
            <a:blip r:embed="rId1"/>
            <a:stretch/>
          </p:blipFill>
          <p:spPr>
            <a:xfrm>
              <a:off x="1763640" y="1989000"/>
              <a:ext cx="4850280" cy="418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" descr=""/>
            <p:cNvPicPr/>
            <p:nvPr/>
          </p:nvPicPr>
          <p:blipFill>
            <a:blip r:embed="rId2"/>
            <a:stretch/>
          </p:blipFill>
          <p:spPr>
            <a:xfrm>
              <a:off x="5100480" y="4430160"/>
              <a:ext cx="2638080" cy="180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50920" y="907920"/>
            <a:ext cx="86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如果输入的密码不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位数字，请提示用户，如下图所示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作业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87280" y="1844640"/>
            <a:ext cx="6913800" cy="4032360"/>
            <a:chOff x="1187280" y="1844640"/>
            <a:chExt cx="6913800" cy="4032360"/>
          </a:xfrm>
        </p:grpSpPr>
        <p:pic>
          <p:nvPicPr>
            <p:cNvPr id="504" name="" descr=""/>
            <p:cNvPicPr/>
            <p:nvPr/>
          </p:nvPicPr>
          <p:blipFill>
            <a:blip r:embed="rId1"/>
            <a:stretch/>
          </p:blipFill>
          <p:spPr>
            <a:xfrm>
              <a:off x="1187280" y="1844640"/>
              <a:ext cx="6294960" cy="39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2"/>
            <a:stretch/>
          </p:blipFill>
          <p:spPr>
            <a:xfrm>
              <a:off x="4676760" y="3909600"/>
              <a:ext cx="3424320" cy="196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52360" y="1558800"/>
            <a:ext cx="864072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Quer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是一个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函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库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框架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Quer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极大地简化了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编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Quer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很容易学习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Query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24000" y="1268280"/>
            <a:ext cx="8640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HTM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元素选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元素操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操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事件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特效和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 DOM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遍历和修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J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Query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库包含以下特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24000" y="1268280"/>
            <a:ext cx="8640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一、取得页面中的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如果不使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avaScript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库，遍历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DOM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树，以及查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HTML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文档结构中某个特殊的部分，必需编写很多代码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Query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为准确获取需要操纵的文档元素，提供了可靠而富有效率的选择符机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二、修改页面的外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CSS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虽然为呈现方式提供了一种强大的手段，但当所有浏览器不完全支持相同的标准时，单纯使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CSS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就会显得力不从心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Query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可以弥补这一不足，它提供了跨浏览器的标准来解决方案。而且即使在页面已经呈现之后，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Query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仍然能够改变文档中某个部分的类或都个别的样式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三、改变页面的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Query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能够影响的范围并不局限于简单的外观变化，使用少量的代码，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Query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就能改变文档的内容，可以改变文本、插入或都翻转图像、对列表重新排序，甚至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HTML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文档的整个结构都能重写和扩充——所有这些只需要一个简单易用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PI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Query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库包含以下特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24000" y="1197000"/>
            <a:ext cx="8640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四、响应用户的页面操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即使是最强大和最精心的设计的行为，如果我们无法控制它何时发生，那它也毫无用处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Qu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提供了截取形形色色的页面事件（比如用户单击一个链接）的适当方式，而不需要使用事件处理程序搞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代码。此外，它的事件处理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P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也消除了经常困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开发人员的浏览器不一致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五、为页面添加动态效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为了实现某种交互式行为，设计者也必须向用户提供视觉上的反馈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Qu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中内置的一批淡入、擦除之类的效果，以及制作新效果的工具包，为此提供了便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六、无需刷新页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即可从服务器获取信息，这种编程模式就是从所周知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JA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syynchoronous JavaScript and X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），它能辅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开发人员创建出反应灵敏、功能丰富的网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Qu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通过消除这一过程中的浏览器特定的复杂性，使开发人员得以专注于服务器端的功能设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Query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库包含以下特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数据类型转换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eval(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字符串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传入的字符串参数内容，转换成相应的数值，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=eval(“15”)+8;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=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parseInt(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字符串，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底数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]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传入的字符串，转换成指定底数的数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parseFloat(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字符串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传入的字符串，转换成浮点数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数据类型转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24000" y="1197000"/>
            <a:ext cx="8640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七、简化常见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avaScript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任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除了这些完全针对文档的特性之外，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Query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也提供了对基本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avaScript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结构（例如迭代和数组操作等）的增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Query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库包含以下特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52360" y="1558800"/>
            <a:ext cx="864072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hea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 src="jquery.js"&gt;&lt;/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hea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把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jQuery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添加到网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52360" y="1558800"/>
            <a:ext cx="864072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cript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rc="http://ajax.googleapis.com/ajax/libs/jquery/1.8.0/jquery.min.j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把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jQuery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添加到网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5852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变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变量命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以字母或下划线开头（不能以数字开头），后面接数字或其它字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变量名区分大小写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例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A="Uppercase  A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a="Lowercase  a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&lt;br&gt;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变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8920" indent="35712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变量的声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变量声明时，不必定义类型，所有类型均由小写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声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name;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自动给出一个未定义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name,sex;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自动给出一个未定义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name=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张永”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x=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女生”；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二变量均为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变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变量的作用域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全局变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Global variable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和局部变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cal variable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crip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title = "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变量的作用域实例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 gv = "JavaScript";       //gv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是全局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tes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函数的输出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br&gt;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 tes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 lv = "VBScript";      //lv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是局部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gv=" + gv + "&lt;br&gt;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lv=" + lv + "&lt;br&gt;"+ "&lt;br&gt;");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documen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的输出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br&gt;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gv=" + gv + "&lt;br&gt;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lv=" + lv + "&lt;br&gt;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crip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常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符串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一般字符串常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特殊字符的字符串常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布尔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ean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整数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ers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浮点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ing-Point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数组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2924280"/>
          <a:ext cx="6985080" cy="1976400"/>
        </p:xfrm>
        <a:graphic>
          <a:graphicData uri="http://schemas.openxmlformats.org/drawingml/2006/table">
            <a:tbl>
              <a:tblPr/>
              <a:tblGrid>
                <a:gridCol w="857160"/>
                <a:gridCol w="2976480"/>
                <a:gridCol w="893880"/>
                <a:gridCol w="2257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后退一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ckspa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制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Ta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换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Form fe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单引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换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ew l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双引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arriage retur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\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斜线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ckslas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557360"/>
            <a:ext cx="853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赋值运算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276640"/>
          <a:ext cx="8496000" cy="2070000"/>
        </p:xfrm>
        <a:graphic>
          <a:graphicData uri="http://schemas.openxmlformats.org/drawingml/2006/table">
            <a:tbl>
              <a:tblPr/>
              <a:tblGrid>
                <a:gridCol w="2128320"/>
                <a:gridCol w="1724040"/>
                <a:gridCol w="2049480"/>
                <a:gridCol w="2594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算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算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/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+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求余赋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-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557360"/>
            <a:ext cx="853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比较运算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95280" y="2205000"/>
          <a:ext cx="8424720" cy="2766960"/>
        </p:xfrm>
        <a:graphic>
          <a:graphicData uri="http://schemas.openxmlformats.org/drawingml/2006/table">
            <a:tbl>
              <a:tblPr/>
              <a:tblGrid>
                <a:gridCol w="1244520"/>
                <a:gridCol w="4197600"/>
                <a:gridCol w="29826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操作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描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举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=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如果两个操作数相等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Psw =pass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!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如果两个操作数不等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mobile.length!=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&gt;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或者等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tries&gt;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&gt;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mflag&gt;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&lt;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或等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i&lt;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&lt;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巧或等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tries&lt;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557360"/>
            <a:ext cx="853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算术运算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24000" y="2205000"/>
          <a:ext cx="8496000" cy="2495520"/>
        </p:xfrm>
        <a:graphic>
          <a:graphicData uri="http://schemas.openxmlformats.org/drawingml/2006/table">
            <a:tbl>
              <a:tblPr/>
              <a:tblGrid>
                <a:gridCol w="1007640"/>
                <a:gridCol w="1636920"/>
                <a:gridCol w="955440"/>
                <a:gridCol w="1498680"/>
                <a:gridCol w="1093680"/>
                <a:gridCol w="2303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ddi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Divis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递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Decre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ubtrac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求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odulu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负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Unary Neg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ultiplic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递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cre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2360" y="1558800"/>
            <a:ext cx="864072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是一种解释型的，基于对象的脚本语言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(an interpreted, object-based scripting language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CSS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等技术综合在一起，可以设计出能够与用户交互并包含动态内容的页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代码可直接嵌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文件中，随网页一起传送到客户端浏览器，然后通过浏览器来解释执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557360"/>
            <a:ext cx="85341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逻辑运算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a&amp;&amp;b 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逻辑与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ogical AND)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，若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,b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都是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，则结果为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a||b 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逻辑或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ogical OR)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，若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,b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任一是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，则结果为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!a 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逻辑非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ogical NOT)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，若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是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，则结果为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1557360"/>
            <a:ext cx="85341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字符串运算符（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String operators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条件运算符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格式：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</a:rPr>
              <a:t>条件表达式？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</a:rPr>
              <a:t>值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</a:rPr>
              <a:t>值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如果条件表达式的结果是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返回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否则就返回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g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定义对象实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法：对象名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象类型（参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如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Array=new Array(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557360"/>
            <a:ext cx="85341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elete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删除对象、属性、数组、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格式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象名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象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属性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数组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     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变量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注：删除成功返回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rue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，删除失败返回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lase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   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ypeof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用来判断操作数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格式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of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操作数      或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of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操作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j)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this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代表当前对象，因此用在不同的地方，就有不同的结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557360"/>
            <a:ext cx="853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选择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14520" y="2205000"/>
            <a:ext cx="21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14520" y="4437000"/>
            <a:ext cx="21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2205360"/>
            <a:ext cx="2883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 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2133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422100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580536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557360"/>
            <a:ext cx="853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选择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71520" y="2489760"/>
            <a:ext cx="5278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结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 (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变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特定数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特定数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6280" y="2133360"/>
            <a:ext cx="301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le (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960" y="3285000"/>
            <a:ext cx="6069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var i =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hile ( i &gt; 0 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("i = " ,i ,"&lt;BR&gt;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i--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2134800"/>
            <a:ext cx="835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或语句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while (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var i =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("i = " ,i ,"&lt;BR&gt;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i--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 while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 i &gt; 0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2133720"/>
            <a:ext cx="6335640" cy="8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( 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初始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增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句或语句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4600" y="3285000"/>
            <a:ext cx="6162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for ( var i = 5; i &gt; 0; i--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("i = " ,i ,"&lt;BR&gt;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2205000"/>
            <a:ext cx="568800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变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象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例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例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148428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2060280"/>
            <a:ext cx="50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th ( &l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gt;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{ &l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语句或语句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gt;  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6640" y="3428280"/>
            <a:ext cx="764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 ("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限时抢购物品：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 ("&lt;Li&gt;ViewSonic 17\"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显示器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 ("&lt;Li&gt;EPSON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打印机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1125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什么是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脚本语言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脚本语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Scripting Language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由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ASCII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码构成，可直接用任何的文本编辑器开发完成。是一种不必事先编译，只要利用适当的解释器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(Interpreter)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就可以执行的简单的解释式程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(2) JavaScrip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JavaScript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是由网景公司开发的一种基于对象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(object)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和事件驱动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(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Event Driven)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的客户端脚本语言。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JavaScript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代码可直接嵌入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HTML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文件中，随网页一起传送到客户端浏览器，然后通过浏览器来解释执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148428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2060280"/>
            <a:ext cx="50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th ( &l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gt;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{ &l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语句或语句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gt;  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8720" y="306864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ith (docum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rite ("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限时抢购物品：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rite ("&lt;Li&gt;ViewSonic 17\"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显示器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rite ("&lt;Li&gt;EPSON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打印机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注释语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2276640"/>
            <a:ext cx="623880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单行注释语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多行注释语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3520" y="1828800"/>
            <a:ext cx="683568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包含两类函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系统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用户自定义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99072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7. JavaScrip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0920" y="1125360"/>
            <a:ext cx="864216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1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编码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字符串中非文字、数字字符（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amp;,%,#,^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空格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转成相对应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CII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cape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2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译码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cape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相反，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CII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字符转回一般数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escape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3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求值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通常有两个用途，一个用作字符串的运算，另一个用来指出操作对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 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50920" y="1125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4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数值判断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判断变量的值是否为数值，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N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代表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Number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若返回值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则表示自变量不是数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NaN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测试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x = 15, y = "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黄雅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&lt;LI&gt;x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是数值吗？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,isNaN(x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&lt;LI&gt;y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是数值吗？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,isNaN(y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执行结果：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x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不是数值吗？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y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不是数值吗？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50920" y="1052640"/>
            <a:ext cx="8569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5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转成整数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各种进制的数值转成十进制整数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格式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seInt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底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二进位转成十进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1101&lt;sub&gt;2&lt;/sub&gt; = 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parseInt("1101", 2),"&lt;sub&gt;10&lt;/sub&gt;&lt;br&gt;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十六进位转成十进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BFFF&lt;sub&gt;16&lt;/sub&gt; = 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parseInt("BFFF", 16),"&lt;sub&gt;10&lt;/sub&gt;&lt;br&gt;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50920" y="105264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6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转成浮点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字符串转成浮点数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格式：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seFloat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parseInt("3.123456"), "&lt;br&gt;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parseFloat("3.123456"), "&lt;br&gt;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907920"/>
            <a:ext cx="83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7) 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用户自定义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752480"/>
            <a:ext cx="734400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名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参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内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return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返回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086720"/>
            <a:ext cx="77076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定义函数的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易于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功能模块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放置在程序开始部分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例1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例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主要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事件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vent)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鼠标或键盘的动作称为事件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事件驱动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vent Driver)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由事件引发的一连串程序的动作，称为事件驱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事件处理程序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vent Handler)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事件进行处理的程序或函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事件处理程序语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105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常见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50920" y="1557360"/>
          <a:ext cx="8569080" cy="4746600"/>
        </p:xfrm>
        <a:graphic>
          <a:graphicData uri="http://schemas.openxmlformats.org/drawingml/2006/table">
            <a:tbl>
              <a:tblPr/>
              <a:tblGrid>
                <a:gridCol w="1180800"/>
                <a:gridCol w="2995560"/>
                <a:gridCol w="1438200"/>
                <a:gridCol w="2954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事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事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止正在加载的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Un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关闭当前网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焦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use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下鼠标左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获取焦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useM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移动鼠标指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对象的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ouse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鼠标指针离开某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对象上单击鼠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ouse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鼠标指针悬停于某对象之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lC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对象上双击鼠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ouse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放开鼠标左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gD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拖拽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窗口被移动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载文件或图形时发生错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窗口大小被改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下键盘上的任意键的瞬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择某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P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下键盘上的任意键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b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单击表单上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mi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Key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某键被按下后弹起来的瞬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单击表单上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Lo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浏览器读入文件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916280"/>
            <a:ext cx="734544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简单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动态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跨平台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1052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JavaScript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事件处理程序语法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事件处理程序直接嵌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标记符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 onLoad = “alert(‘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这是事件处理程序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”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 onLoad="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您好！欢迎您学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')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浏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直接写在对象后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onLoad = 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这是事件处理程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浏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应用举例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FONT STYLE="cursor:hand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lick="location='http://www.hubert.idv.tw/'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MouseOver="status=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最棒的在线学习网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.color='red';return tru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MouseOut="status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.color='blue'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网络技术学习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FO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浏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应用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FORM name=fff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请输入基本资料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姓名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INPUT TYPE="text" NAME="usr" SIZE="8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INPUT TYPE="button" VALUE="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请单击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lick="alert(fff.usr.value+' 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谢谢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')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浏览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提供了一些非常有用的常用内部对象和方法。用户不需要用脚本来实现这些功能。这正是基于对象编程的真正目的。本节主要介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提供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数组）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字符串）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数值计算）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日期）内置对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Array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格式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象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Array(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元素个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或 对象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Array(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[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…]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例如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uit=new Array(2)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声明了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个元素的数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uit=new Array(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苹果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橘子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声明了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个  数组元素的数组，并赋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数组元素的索引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数组长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数组元素个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将数组内的所有值组合成一个字符串，并用特定符号分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String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以字符串来表示数组和数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将数组内元素的索引次序翻转过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71640" y="1052640"/>
            <a:ext cx="7848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Array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例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1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：一维数组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例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2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：二维数组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5280" y="98100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字符串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String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格式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字符串变量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字符串常数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例如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str1=”JavaScript”   //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定义字符串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字符串长度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包括字符串显示和运算两类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属性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ength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测试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indexOf()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函数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大、小写转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98100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字符串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(String)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对象的常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24000" y="1413000"/>
          <a:ext cx="8569080" cy="4606920"/>
        </p:xfrm>
        <a:graphic>
          <a:graphicData uri="http://schemas.openxmlformats.org/drawingml/2006/table">
            <a:tbl>
              <a:tblPr/>
              <a:tblGrid>
                <a:gridCol w="3168360"/>
                <a:gridCol w="5400720"/>
              </a:tblGrid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创建书签链接，相当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A name=…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 格式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ing.ancho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创建超链接，相当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A href=…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，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格式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ing.link(UR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g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all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alic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ink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ntsize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ntco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创建字符显示格式，相当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BIG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B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ML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记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LowerCas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Upper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符串大小写转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exOf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t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返回指定子字符串在字符串中第一次出现的左、右索引位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tring(start,e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返回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rt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开始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的子字符（不包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置的字符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返回某字符串中指定的子字符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7451640" y="609300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98100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学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Math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欧拉常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自然对数的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7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N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自然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6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N10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自然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3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2E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为底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4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10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为底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.4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∏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141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QRT1_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平方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.7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QRT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平方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414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98100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学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Math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某数的绝对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os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某数的反余弦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以弧度为单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in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某数的反正弦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以弧度为单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an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某数的反正切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以弧度为单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eil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大于或等于指定数的最小整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loor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ei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相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x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两数间的较大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n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两数问的较小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w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次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其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m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为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为指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dom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之间的一个伪随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und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某数四舍五入之后的整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42920" y="1916280"/>
            <a:ext cx="7850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制作网页特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实现表单数据前端校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窗口动态操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鼠标特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数据校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1052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3. 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的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格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象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Date ( 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日期参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 = new Date () //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以当日时间为对象初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 = new Date (“October 1,2002 12:00:00”)  //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以英文表示月份，其余以数值表示，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月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年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 = new Date (“200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7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)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一律以数字表示，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Year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返回年份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Month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返回月份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Dat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并返回日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Day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返回星期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Hour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返回小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Minute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返回分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Second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返回秒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Tim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返回完整的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Dat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改变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象的日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Hour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改变小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Minute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改变分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Month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改变月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Second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改变秒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Tim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改变完整的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Year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改变年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月份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1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日期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---3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星期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-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小时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2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分钟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5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秒数为  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5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毫秒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99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例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象常用方法测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例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显示当天的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例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显示用户的进站时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例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倒计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用户自定义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实际应用应用中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提供的内置对象往往不能满足用户的需求，因此，常常需要建立用户自定义对象。对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bject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是一组经过组织的数据，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中的每一个对象都有两个相关的成员，即属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roperty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和方法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ethod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建立自定义对象就是为对象定义属性和方法，其步骤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）写一个构造函数来定义对象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为对象类定义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为对象类定义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先将方法的名称放到对象的构造函数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写一个函数来描述该对象方法的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）利用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new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创建对象实例（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Object Instance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举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1052640"/>
            <a:ext cx="8353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作业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利用日期对象，对不同的进站时间，显示不同的提示信息。比如，上午六点到下午六点，显示“将有限的时间用在作最有意义的事”；其他时间显示“现在是休息时间”。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（答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检测用户输入的邮件格式是否正确。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（答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用户进入时，显示“欢迎您进入本网站！”；离开时，显示“谢谢您，欢迎下次再来！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答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 onLoad="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欢迎您进入本网站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)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UnLoad="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谢谢您，欢迎下次再来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)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16000" y="260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浏览器对象及其层次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0920" y="29098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30560" y="170352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28760" y="244476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28760" y="321480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81320" y="4046400"/>
            <a:ext cx="109044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62480" y="4799160"/>
            <a:ext cx="109044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65720" y="42861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62480" y="38019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65720" y="32878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65720" y="27892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362480" y="2319480"/>
            <a:ext cx="109044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365720" y="18543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51320" y="1397160"/>
            <a:ext cx="109080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34120" y="452772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35560" y="401328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34120" y="3529080"/>
            <a:ext cx="109044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35560" y="3016080"/>
            <a:ext cx="109080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35560" y="2516040"/>
            <a:ext cx="109080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4120" y="2060640"/>
            <a:ext cx="136224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Up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35560" y="1582560"/>
            <a:ext cx="109080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21520" y="1125360"/>
            <a:ext cx="109044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34120" y="597852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35560" y="546588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34120" y="49816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79560" y="1854360"/>
            <a:ext cx="0" cy="23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79520" y="306396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879560" y="1870200"/>
            <a:ext cx="37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79560" y="25956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79560" y="336708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879560" y="419724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40120" y="1536840"/>
            <a:ext cx="0" cy="34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40120" y="499896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21040" y="4424400"/>
            <a:ext cx="53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55960" y="392580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55960" y="342756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0120" y="291312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0120" y="2475000"/>
            <a:ext cx="53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40120" y="199080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55960" y="152244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321000" y="261000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88160" y="1279440"/>
            <a:ext cx="0" cy="491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888160" y="127944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907240" y="174780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888160" y="221760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07240" y="27003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872320" y="317016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88160" y="36990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88160" y="419724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72320" y="4697280"/>
            <a:ext cx="32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888160" y="514980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88160" y="56196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72320" y="61642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95760" y="2943360"/>
            <a:ext cx="39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802640" y="59943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614844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24000" y="907920"/>
            <a:ext cx="842472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顶层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用来表示浏览器所打开的窗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指定窗口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   窗口名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窗口名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打开当前窗口的窗口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pener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pener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框架中的顶级窗口：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op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op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当前活动窗口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f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f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例如：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in1.document.title=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广告窗口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elf.close()           opener.document.forms[0].user.value=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张永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ame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窗口的名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os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判断窗口是否已经被关闭，返回布尔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含当前文档的信息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ram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窗口的框架对象数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以数组索引值表示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histor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当前窗口最近浏览过的网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oc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窗口所显示文档的完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RL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窗口内的框架个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pen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代表使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打开当前窗口的脚本所在的窗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el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代表当前窗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o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代表当前框架的最顶层窗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916280"/>
            <a:ext cx="8642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中直接写入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BODY&gt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P  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onmouseover="alert('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</a:rPr>
              <a:t>欢迎您学习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JavaScript!')"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鼠标移过来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P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HTM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运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50920" y="981000"/>
            <a:ext cx="8569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efaultStatu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缺省的状态栏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tatu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状态栏中的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crollbar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浏览器的滚动条（包括水平和垂直滚动条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oolba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浏览器的工具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menuba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浏览器的菜单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ocationba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浏览器的地址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innerHeigh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窗口内容区的高度（以像素表示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innerWid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窗口内容区的宽度（以像素表示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uterHeigh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窗口边界的高度（以像素表示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uterWid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窗口边界的宽度（以像素表示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pageXOffse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网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-positio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位置（以像素表示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pageYOffse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网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-positio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位置（以像素表示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50920" y="981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pen(URL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，窗口名称，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，窗口规格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]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打开一个新窗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ose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关闭窗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MoveBy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水平点数，垂直点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MoveTo(x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y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将窗口移动至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,y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坐标处，参数取绝对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sizeBy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水平点数，垂直点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调整窗口大小（往右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往下），参数取相对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sizeTo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宽度，高度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etTimeout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表达式，毫秒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等待一段指定的毫秒数时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然后运行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earTimeout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定时器对象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清除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Timeou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定义的计时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etInterval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表达式，毫秒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设置一个定时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earInterval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定时器对象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清除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Interva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定义的计时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ocus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将焦点移到此窗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blur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把焦点从指定窗口移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e()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进入客户端在浏览器上设置的主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top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停止加载网页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back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历史记录的上一个网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orward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加载历史记录的下一个网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alert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字符串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传送警告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nfirm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字符串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打开一个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firm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消息框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户可以选择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ce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如果用户单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K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该方法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单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ce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prompt(“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提示字符串”，默认值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打开一个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p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对话框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户可向该框键入文本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并把键入的文本返回到脚本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042920" y="981000"/>
            <a:ext cx="6626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Bl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Drag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U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Re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6.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举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改变窗口的大小实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打开窗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Prompt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方法实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setInterval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实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setTimeout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实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WINDOW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对象综合实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单击“来者何人”，打开一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200*100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的窗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打开网页时，自动打开一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300*100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的窗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作   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56386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它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象的一个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用来存储客户端最近访问过的网页清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story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story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（参数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ngth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存储在记录清单中的网页数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urrent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当前网页的地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xt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下一个历史记录的网页地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ious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上一个历史记录的网页地址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历史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HISTO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50920" y="981000"/>
            <a:ext cx="856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a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回到客户端查看过的上一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war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回到客户端查看过的下一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go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整数或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字符串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前往历史记录中的某个网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例：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istory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对象实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历史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HISTO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596360" y="6021360"/>
            <a:ext cx="93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历史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HISTO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11280" y="1484280"/>
            <a:ext cx="1224000" cy="2232000"/>
            <a:chOff x="611280" y="1484280"/>
            <a:chExt cx="1224000" cy="2232000"/>
          </a:xfrm>
        </p:grpSpPr>
        <p:sp>
          <p:nvSpPr>
            <p:cNvPr id="366" name=""/>
            <p:cNvSpPr/>
            <p:nvPr/>
          </p:nvSpPr>
          <p:spPr>
            <a:xfrm>
              <a:off x="61128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7280" y="148428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979640" y="1484280"/>
            <a:ext cx="1224000" cy="2232000"/>
            <a:chOff x="1979640" y="1484280"/>
            <a:chExt cx="1224000" cy="2232000"/>
          </a:xfrm>
        </p:grpSpPr>
        <p:sp>
          <p:nvSpPr>
            <p:cNvPr id="369" name=""/>
            <p:cNvSpPr/>
            <p:nvPr/>
          </p:nvSpPr>
          <p:spPr>
            <a:xfrm>
              <a:off x="197964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2400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348000" y="1484280"/>
            <a:ext cx="1224000" cy="2232000"/>
            <a:chOff x="3348000" y="1484280"/>
            <a:chExt cx="1224000" cy="2232000"/>
          </a:xfrm>
        </p:grpSpPr>
        <p:sp>
          <p:nvSpPr>
            <p:cNvPr id="372" name=""/>
            <p:cNvSpPr/>
            <p:nvPr/>
          </p:nvSpPr>
          <p:spPr>
            <a:xfrm>
              <a:off x="334800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9236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714920" y="1484280"/>
            <a:ext cx="1224000" cy="2232000"/>
            <a:chOff x="4714920" y="1484280"/>
            <a:chExt cx="1224000" cy="2232000"/>
          </a:xfrm>
        </p:grpSpPr>
        <p:sp>
          <p:nvSpPr>
            <p:cNvPr id="375" name=""/>
            <p:cNvSpPr/>
            <p:nvPr/>
          </p:nvSpPr>
          <p:spPr>
            <a:xfrm>
              <a:off x="471492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5928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083280" y="1484280"/>
            <a:ext cx="1224000" cy="2232000"/>
            <a:chOff x="6083280" y="1484280"/>
            <a:chExt cx="1224000" cy="2232000"/>
          </a:xfrm>
        </p:grpSpPr>
        <p:sp>
          <p:nvSpPr>
            <p:cNvPr id="378" name=""/>
            <p:cNvSpPr/>
            <p:nvPr/>
          </p:nvSpPr>
          <p:spPr>
            <a:xfrm>
              <a:off x="608328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2764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451640" y="1484280"/>
            <a:ext cx="1224000" cy="2232000"/>
            <a:chOff x="7451640" y="1484280"/>
            <a:chExt cx="1224000" cy="2232000"/>
          </a:xfrm>
        </p:grpSpPr>
        <p:sp>
          <p:nvSpPr>
            <p:cNvPr id="381" name=""/>
            <p:cNvSpPr/>
            <p:nvPr/>
          </p:nvSpPr>
          <p:spPr>
            <a:xfrm>
              <a:off x="745164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67640" y="148428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611280" y="4149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y.ba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1280" y="472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y.forward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5373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y.go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20000" y="6093000"/>
            <a:ext cx="143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代表特定窗口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信息。一个完整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格式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rotocol // host</a:t>
            </a:r>
            <a:r>
              <a:rPr b="1" i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ort / path # hash ?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其中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rotoco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通信协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hos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机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通信端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at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件路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has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定位锚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searc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查询信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位置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OC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1916280"/>
            <a:ext cx="8642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代码放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…&lt;/Script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标记符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scrip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33e1d"/>
                </a:solidFill>
                <a:latin typeface="Times New Roman"/>
              </a:rPr>
              <a:t>document.write("</a:t>
            </a:r>
            <a:r>
              <a:rPr b="0" lang="zh-CN" sz="3200" spc="-1" strike="noStrike">
                <a:solidFill>
                  <a:srgbClr val="e33e1d"/>
                </a:solidFill>
                <a:latin typeface="Times New Roman"/>
              </a:rPr>
              <a:t>欢迎您学习</a:t>
            </a:r>
            <a:r>
              <a:rPr b="0" lang="en-US" sz="3200" spc="-1" strike="noStrike">
                <a:solidFill>
                  <a:srgbClr val="e33e1d"/>
                </a:solidFill>
                <a:latin typeface="Times New Roman"/>
              </a:rPr>
              <a:t>JavaScript!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运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50920" y="907920"/>
            <a:ext cx="856908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tion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tion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（参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as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定位锚点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主机名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nam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s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re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完整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字符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thnam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端口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rotoc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通信协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ar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以问号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?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开始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的一部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用于指定搜索信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位置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OC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load()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新加载（刷新）当前的网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lace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网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用特定的网页取代当前的网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普通文字实现超链接的范例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自动打开网页范例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位置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OC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50920" y="907920"/>
            <a:ext cx="856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每一个框架对象相当于窗口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WINDOW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，因此框架对象可以使用窗口对象的所有属性和方法。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框架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RA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132000" y="1844640"/>
            <a:ext cx="4392720" cy="1728720"/>
            <a:chOff x="3132000" y="1844640"/>
            <a:chExt cx="4392720" cy="1728720"/>
          </a:xfrm>
        </p:grpSpPr>
        <p:sp>
          <p:nvSpPr>
            <p:cNvPr id="396" name=""/>
            <p:cNvSpPr/>
            <p:nvPr/>
          </p:nvSpPr>
          <p:spPr>
            <a:xfrm>
              <a:off x="3132000" y="2205000"/>
              <a:ext cx="4392720" cy="1368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32000" y="2781360"/>
              <a:ext cx="439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32360" y="2781360"/>
              <a:ext cx="0" cy="79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37080" y="2997000"/>
              <a:ext cx="17128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wnF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44720" y="2278080"/>
              <a:ext cx="13510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pF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76360" y="2925720"/>
              <a:ext cx="137484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ftF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84560" y="1844640"/>
              <a:ext cx="82080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132000" y="4005360"/>
            <a:ext cx="4679640" cy="2518920"/>
            <a:chOff x="3132000" y="4005360"/>
            <a:chExt cx="4679640" cy="2518920"/>
          </a:xfrm>
        </p:grpSpPr>
        <p:sp>
          <p:nvSpPr>
            <p:cNvPr id="404" name=""/>
            <p:cNvSpPr/>
            <p:nvPr/>
          </p:nvSpPr>
          <p:spPr>
            <a:xfrm>
              <a:off x="3132000" y="4005360"/>
              <a:ext cx="1972800" cy="41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4600" y="4767120"/>
              <a:ext cx="2327040" cy="43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ftF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84600" y="5435640"/>
              <a:ext cx="230184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pF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84600" y="6089040"/>
              <a:ext cx="2327040" cy="43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wnF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18400" y="4425120"/>
              <a:ext cx="0" cy="18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18400" y="6275520"/>
              <a:ext cx="139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18400" y="5653440"/>
              <a:ext cx="139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18400" y="4984920"/>
              <a:ext cx="139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24000" y="1916280"/>
            <a:ext cx="8569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框架组的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4149720"/>
            <a:ext cx="295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框架组的层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50920" y="90792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框架的引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left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 up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 down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frames[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frames[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frames[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4.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框架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RA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24000" y="1197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文件对象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ocument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代表当前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，是由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BODY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组构成的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自动为每一个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文件建立一个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，用来显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文件。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档中的一个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A HREF=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件中的所有链接，以数组索引值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档的链接的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link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活动链接的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ALINK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link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指向已点击过的超链接文本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LIN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特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s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件中的所有表单，以数组索引值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image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档中所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ag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以数组索引值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nchors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档中所有锚点，以数组索引值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g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档的背景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BGCOLOR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g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档中文本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&lt;BODY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特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oki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存储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okie.t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件内的一段信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它是该文档对象的一个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URL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该文件的网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itle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档的标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(TITLE&gt;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astModifie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档最后的修改日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rit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字符串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将字符串或数值写到文件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getSelection(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取得当前选取的字符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测试文件对象的颜色属性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网页修改日期时间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24000" y="1125360"/>
            <a:ext cx="8569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当文档中包含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A&gt;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标记时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自动建立相对应的锚点对象。这些对象可以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chors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属性，搭配数组的索引方式来进行访问控制。例如：文件中的第一个锚点对象，叫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cument. anchors [0],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第二个锚点对象，叫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cument. anchors [1]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依次类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锚点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ANCH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锚点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锚点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anchor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anchor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me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锚点的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锚点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ANCH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1844640"/>
            <a:ext cx="86421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代码独立存储为以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js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为扩展名的文件，利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RC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属性将该文件调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 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src="welcome.js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elcome.js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文件内容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document.write("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</a:rPr>
              <a:t>欢迎您学习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JavaScript!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24000" y="1125360"/>
            <a:ext cx="8569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无论是文字、图形或图像映射，只要是用来作为超级链接用的对象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自动建立相对应的链接对象。这些对象可以用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，搭配数组的索引方式来进行访问控制。例如：文件中的第一个链接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links[0],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第二个链接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links[1],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依次类推。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链接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INK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50920" y="907920"/>
            <a:ext cx="8642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链接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链接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link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link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ash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字符串中锚点的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主机域名或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地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na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当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s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re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完整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字符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thname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当中的目录路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path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链接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INK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907920"/>
            <a:ext cx="8893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ort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当中的通信端口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port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rotoc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当中的通信协议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arch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当中的查询字符串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arge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代表目标的窗口，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RGE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中的文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4.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链接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INK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68360" y="1125360"/>
            <a:ext cx="835164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当文件中包含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MG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时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自动建立相对应的图像对象。这些对象可以用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image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，搭配数组的索引方式来进行访问控制。例如：文件中的第一个图像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 images [0],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第二个图像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 images [1],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依次类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图像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IMAG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50920" y="907920"/>
            <a:ext cx="856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建立图像对象：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ew image([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宽度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,][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高度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rc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图像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orde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图像的边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MG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ORD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idth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图像的宽度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eight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图像的高度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space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图像水平空白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SPAC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space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图像垂直空白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SPAC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owsrc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图像的第分辨率版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WSR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mplete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浏览器是否完成了图像的加载，一个布尔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Ab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Erro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Loa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图像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IMAG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表单对象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Form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提供一个让客户端输入文字或进行选择的功能，例如：单选按钮、复选框、选择列表等。由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组构成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自动建立一个表单对象，并将用户端的信息送至服务器进行处理。表单对象是文件对象的子对象，同时，它也包含许多子对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表单对象的使用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（参数群）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常用属性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，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cti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O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ethod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输入窗体的数据传送到服务器上的方式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FORM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中的所有控件，以数组索引值表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engt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中的控件的个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常用属性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box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复选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idde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NPUT TYPE=”HIDDEN”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隐藏对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utt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NPUT TYPE=”BUTTON”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adio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单选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ese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复位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属性自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ubmi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提交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单行文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area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多行文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SELECT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选择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常用方法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ubmit(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提交表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mi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的作用相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eset(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写表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与使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的作用相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时，自动建立一个文本按钮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组当中，让程序员可以通过一定的方法来控制这一对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使用文本对象的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本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本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单行文本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1916280"/>
            <a:ext cx="8642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为避免某些浏览器不完全支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而造成错误，可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代码用注释语句括起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 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!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-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常用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Val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象的缺省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初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当前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在的表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常用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把焦点从文本框移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把焦点移到文本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将该对象设置成选取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单行文本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hang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Selec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TITLE&gt;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单行文本范例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/TIT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FORM name=form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姓名：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INPUT TYPE="text" NAME="name1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INPUT TYPE="button" VALUE="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请单击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nClick=alert(form1.name1.value + "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，谢谢你！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")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/FORM&g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运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单行文本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1052640"/>
            <a:ext cx="7958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ssword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时，自动建立一个密码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组当中，让程序员可以通过一定的方法来控制这一对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其引用方法与单行文本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密码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utt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时，自动建立一个按钮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使用按钮对象的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按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9640" y="907920"/>
            <a:ext cx="835344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常用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上显示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所在的表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常用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lick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再该对象上单击鼠标左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按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当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读到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标记中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属性值为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ubmi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时，自动建立一个提交按钮对象，并将该对象放到表单对象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数组当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其用法语按钮对象相同。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提交按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当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读到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标记中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属性值为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rese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时，自动建立一个重置按钮对象，并将该对象放到表单对象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数组当中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其用法与按钮对象相同。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重置按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4360" y="1052640"/>
            <a:ext cx="7958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用户登录界面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输入信用卡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输入四位密码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TEXTAREA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时，自动建立一个文本区域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使用文本对象的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本区域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本区域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多行文本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Val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对象的缺省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初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对象的当前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对象所在的表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把焦点从文本框移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把焦点移到文本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将该对象设置成选取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Chang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Selec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多行文本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13:33:05Z</dcterms:created>
  <dc:creator>zyl</dc:creator>
  <dc:description/>
  <dc:language>en-US</dc:language>
  <cp:lastModifiedBy>guo</cp:lastModifiedBy>
  <dcterms:modified xsi:type="dcterms:W3CDTF">2008-04-09T22:54:43Z</dcterms:modified>
  <cp:revision>6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  <property fmtid="{D5CDD505-2E9C-101B-9397-08002B2CF9AE}" pid="3" name="Version">
    <vt:r8>5</vt:r8>
  </property>
</Properties>
</file>