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726-654B-4922-8E8A-6EA44317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DA8-2E3E-4E1E-886F-89EC1230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819-E759-4F67-92E4-A75ED906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0FA-2FCE-4F53-AABB-8B623B28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6AD0-AE1B-4DE9-90E4-CA154439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F43-DC79-473B-88FD-51953A64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218-C09E-459B-B6E8-AC45BCA3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38C-6278-454C-9E6E-30267BED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D9B-CFD3-47FD-ABF6-904A5769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DDE-F220-430F-ABAF-A61C242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FB4-4CB5-4A43-A7F7-E8C981F3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EF3-BCED-45B7-8D10-EDEE2438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18A2-2094-475E-91DB-84CE8C1D1A9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353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自定义函数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定义函数的参数赋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变量赋值方法相同，自定义函数的参数赋值有两种方法：传值赋值和传地址赋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传值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认情况下，自定义函数的参数是按传值赋值的方式为函数参数赋值，即：将一个值的“拷贝”赋值给函数的参数（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yValue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传地址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定义函数的参数也可使用传地址赋值，即：将一个变量的“引用”传递给函数的参数。和变量传地址赋值的方式一样，在函数的参数名前追加一个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amp;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符实现传地址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的作用域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loba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的作用域取决于变量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的位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函数内定义的变量（包括函数的参数）为局部变量，局部变量在调用函数结束后被自动回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函数外定义的变量为全局变量，声明后的全局变量可以被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所有语句访问（函数内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除外），当程序执行到程序末尾的时候，全局变量才被自动回收。全局变量也可应用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所引用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函数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要访问全局变量，需要在函数内定义的变量名前加关键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loba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此时函数内局部变量变为全局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0526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的生存周期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tic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字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内定义的变量生存周期是短暂的：每一次函数调用的开始到这一次函数调用的结束。有时希望函数中的变量能够从这次调用一直存活到下次调用，此时需要在该变量前加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字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字一般在函数定义中使用，用于修饰局部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函数类似于可变变量，变量函数的函数名为变量。使用变量函数可以实现通过改变变量的值的方法调用不同的函数。变量函数的调用方法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varName(param1Value, param2Value,param3Value,…paramn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综合示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-108000" y="1125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上传功能的函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loa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8080" y="1628640"/>
            <a:ext cx="8856720" cy="520452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unction upload($file,$filePath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$error = $file['error'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witch ($error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se 0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$fileName = $file['name'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$fileTemp = $file['tmp_name'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$destination = $filePath."/".$file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ove_uploaded_file($fileTemp,$destinatio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turn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文件上传成功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se 1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turn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上传附件超过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hp.in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pload_max_filesiz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选项限制的值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se 2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turn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上传附件的大小超过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or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表单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X_FILE_SIZ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选项指定的值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se 3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turn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附件只有部分被上传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se 4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turn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没有选择上传附件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?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5 return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语言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052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首先结束当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运行，然后将当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运行结果返回给引用程序，程序的执行流程跳转到引用程序。如果没有引用程序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直接结束当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运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程序的流程时，通常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被引用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使用，程序执行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后，将运算结果返回给引用程序，并将控制转交给引用程序。被引用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将不再执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5 return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语言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052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作控制语句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i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的区别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i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结束所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（包括引用者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）的运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会结束被引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运行，不会结束引用者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运行，并且被引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向引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返回一个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文件间的引用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函数概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自定义函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-4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自定义函数综合示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-5 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return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语言结构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文件间的引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include(string re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将一个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入到当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。字符串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个资源文件的文件名，该资源可以是本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上的资源，如图片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面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面等，也可以是互联网上的资源。若找不到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若找到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且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返回值时，返回整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返回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文件间的引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语法格式及功能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同，只不过两者之间存在着细微的区别。在错误处理方面：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，如果被引用文件发生错误或不能找到被引用文件，引用文件将提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rni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然后继续执行下面的语句。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，如果被引用文件发生错误或不能找到被引用文件，引用文件将提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rni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tal err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命错误信息然后终止程序运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文件间的引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_onc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分别对应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，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可以有效避免多次引用同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而引起函数或变量的重复定义问题的发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include_once (string re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将一个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入到当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。若找不到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若找到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且该资源文件第一次载入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返回整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若找到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且该资源文件已经载入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函数概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设计中，可以将经常使用的代码段独立出来，形成单独的子程序，这些子程序就是函数。函数只需要定义一次，之后便可以重复使用，故可以增强了代码的重用性。一般而言，函数的功能较为单一，因此函数的编写和维护比较容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函数概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种类和变量种类的划分方法相似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有三种类型的函数：内置函数、自定义函数和变量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置函数类似于预定义变量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置函数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预定义好的函数，这些函数在编程时无需定义，可以直接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定义函数类似于自定义变量，由程序员根据特定需要编写出来的代码段。和内置函数不同，自定义函数只有在定义之后才可以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函数类似于可变变量，变量函数的函数名为一个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种类型的函数都有一个共同特点：调用函数时，函数名大小写不敏感，例如：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d5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D5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实质上是调用同一个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定义函数的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定义自定义函数的语法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nction functionName($param1, $param2, $param3,…$paramn=defaultValue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体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回值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定义函数的声明和调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用自定义函数时需要注意：应该先声明自定义函数，然后才可以在调用处使用如下方式调用自定义函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nctionName(param1Value, param2Value,param3Value,…paramn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函数的定义和函数的调用位于不同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时，需要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_on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引用函数定义所在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，这个过程称为函数的声明。当函数的定义和函数的调用位于同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时，此时无须函数的声明即可直接调用自定义函数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6:51Z</dcterms:modified>
  <cp:revision>270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