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C43-DA5E-4098-A546-1C36658D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86C-67A1-45DA-A053-17B32AF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37E-A879-476A-9A3B-4B03F43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9ED-BDE3-4475-8C32-2F01035A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62B-7D4C-49A8-AC2A-9F8B9B22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755-54AC-4C3E-B0C6-9932C8B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471-CB98-4134-B100-47678C21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0F5-3997-41FB-8055-05C3893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362-9EF2-44C2-B3B5-B710B36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578-2BAD-489E-A9D8-77972EE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3AD-371D-4A8F-AC05-CCD4007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4CB-5E87-4763-A07B-B8D5CD0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6EE-84C7-49ED-B4B3-105FE44AA3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基础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采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的数据，然后进行显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357720"/>
            <a:ext cx="7848720" cy="243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代码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，并输出换行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user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onfirm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负责采集表单提交数据，然后对这些数据进行简单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852640"/>
            <a:ext cx="5832360" cy="2864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password == $confirmPassword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注册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加密后的密码为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md5($passwo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输入的密码和确认密码不一致，请重新注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常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浏览器输出字符串数据，除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外，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浏览器输出字符串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的是没有经过格式化的字符串，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则是输出经过格式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复合数据类型的数据（如数组或对象），可选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输出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块中只嵌入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且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一条输出语句，此时可以使用输出运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= ?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字符串数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码规范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缩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括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名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代码添加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开发是一种高级脑力劳动，精妙的算法之后往往伴随着难以理解的代码，对于不经常维护的代码，往往连开发者本人也忘记编写的初衷。要为代码添加注释，增强代码的可读性和可维护性。有时添加注释和编写代码一样难，但养成这样的习惯是必要的。请记住：尽最大努力把方便留给别人和将来的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代码基本语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程序的组成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编码规范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与结束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WithPHP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cript language="php"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cript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%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535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持如下三种注释风格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notation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风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57720"/>
            <a:ext cx="6481800" cy="32907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依次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 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   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#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//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签和结束标签之外的代码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演示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注释风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注释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及语句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一般由若干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构成，每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完成某项操作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每条语句以英文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只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标记之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省略结尾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多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之间密不可分，可以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包含起来形成语句块。单独使用语句块时没有任何意义，语句块只有和条件控制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循环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函数等一起使用时才有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功能的角度，完整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可以划分为三个组成部分：数据的采集、数据的处理和数据的输出，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采集主要包括三个过程：浏览器端的数据采集、浏览器端数据的提交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264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传统的高级语言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变量或常量实现数据在内存中的存储，并使用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常量名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现了内存数据的按名存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等于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赋值运算符）给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允许直接访问一个未经初始化的变量，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变量作用域的概念实现内存数据的安全访问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入了数据类型的概念修饰和管理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传统的高级语言不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名之前要加美元符号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识，例如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“弱类型的语言”，声明变量或常量时，不需要事先声明变量或常量的数据类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自动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根据变量的值将变量转换成适当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分为四种：标量数据类型、复合数据类型、特殊数据类型和伪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标量数据类型共有四种：布尔型、整型、浮点型和字符串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数据类型共有两种：数组和对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数据类型有资源数据类型和空数据类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伪类型通常在函数的定义中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数据的采集主要依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实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是包含一系列表单元素的区域，表单元素是允许用户在表单中输入信息的元素。常见的表单元素有：文本域、下拉列表、单选框、复选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代码是简单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该表单的显示效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200" y="4508640"/>
            <a:ext cx="5905440" cy="20120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 action="register.ph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 户 名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userName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nbsp;&amp;nbsp;&amp;nbsp;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 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密码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confirm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 交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rese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填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574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09Z</dcterms:modified>
  <cp:revision>253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