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C08E-0997-45D0-A0B6-836007C3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5E24-8060-450F-80CB-5B427C80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5377-5B42-4ECE-9940-F31D954FD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E8A0-5729-47AF-93A5-0579D3349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0081-81E5-4EBD-8B87-64C1BDBC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951B-E971-4A45-BE72-BE823F56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0E09-2F04-44EB-B20F-FE31A3F7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2194-02E6-4F59-87BA-AA8F5790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1C8D-E5FF-4CF0-B760-F8D2B261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DFA5-48A6-49A8-959B-B692D593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93CF-24EF-461F-8CBF-10B5FC3E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26FB-3033-4F2F-945C-51D59947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FC5E-F22A-4D98-9A6C-CCA537DB4188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49440" y="6491160"/>
            <a:ext cx="26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PHP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编程基础与实例教程</a:t>
            </a: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(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第二版</a:t>
            </a: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6360" y="1125360"/>
            <a:ext cx="827892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zh-CN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编程基础与实例教程</a:t>
            </a:r>
            <a:r>
              <a:rPr b="1" lang="zh-CN" sz="2800" spc="-1" strike="noStrike" baseline="100000">
                <a:solidFill>
                  <a:srgbClr val="ff9900"/>
                </a:solidFill>
                <a:latin typeface="楷体_GB2312"/>
                <a:ea typeface="楷体_GB2312"/>
              </a:rPr>
              <a:t>第二版</a:t>
            </a:r>
            <a:br>
              <a:rPr sz="5400"/>
            </a:br>
            <a:r>
              <a:rPr b="1" lang="en-US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 Fundamentals &amp; Practices</a:t>
            </a:r>
            <a:r>
              <a:rPr b="1" lang="en-US" sz="1600" spc="-1" strike="noStrike" baseline="100000">
                <a:solidFill>
                  <a:srgbClr val="ff9900"/>
                </a:solidFill>
                <a:latin typeface="Times New Roman"/>
                <a:ea typeface="楷体_GB2312"/>
              </a:rPr>
              <a:t>2nd Edition</a:t>
            </a:r>
            <a:endParaRPr b="1" lang="en-US" sz="16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458136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第 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8</a:t>
            </a: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章 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MySQL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数据库  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6147360" y="378936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主讲：孔祥盛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2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据库的设计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1052640"/>
            <a:ext cx="8424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约束（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nstraint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用的约束条件有六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键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imary key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约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键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eign key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约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唯一性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niqu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约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默认值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efaul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约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非空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ot NUL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约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查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eck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约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3 MySQL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简介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05264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的启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习第一章的内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3 MySQL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简介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1052640"/>
            <a:ext cx="8424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客户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客户机可以是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ampServe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带的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行窗口，也可以是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D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提示符窗口（简称为命令提示符窗口），还可以是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器（例如使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MyAdmi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器访问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），甚至还可以是第三方客户机程序（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 Workbench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）。本书只讲解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ampServe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带的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行窗口以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D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提示符窗口作为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客户机的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行窗口作为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客户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D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提示符窗口作为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客户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3 MySQL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简介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52640"/>
            <a:ext cx="842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接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启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后，需要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客户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功打开一个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连接，才能实现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之间的交互，如图所示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客户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连接命令格式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 -h 127.0.0.1 -P 3306 -u root 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013440" y="2778120"/>
          <a:ext cx="3238560" cy="15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3440" y="2778120"/>
                    <a:ext cx="3238560" cy="15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" name="图片 112" descr=""/>
          <p:cNvPicPr/>
          <p:nvPr/>
        </p:nvPicPr>
        <p:blipFill>
          <a:blip r:embed="rId3"/>
          <a:stretch/>
        </p:blipFill>
        <p:spPr>
          <a:xfrm>
            <a:off x="108000" y="4294080"/>
            <a:ext cx="613404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3 MySQL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简介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052640"/>
            <a:ext cx="8424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ISAM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noDB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存储引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ISAM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检查和修复表格的大多数工具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ISAM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可以被压缩，而且支持全文搜索，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ISAM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不是事务安全的，而且也不支持外键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eign Key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如果某个数据库表需要执行大量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，出于性能方面的考虑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ISAM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存储引擎是更好的选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noDB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存储引擎是事务安全的，并且它还支持外键，如果需要一个事务安全的存储引擎，建议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noDB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如果某个数据库表需要执行大量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ser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pdat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，出于事务安全方面的考虑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noDB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存储引擎是更好的选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5.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始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默认存储引擎从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ISAM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更为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noDB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4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集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集与字符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aracter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指人类语言最小的表义符号，例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'A'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'B'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定一系列字符，对每个字符赋予一个数值，用数值来代表对应的字符，这个数值就是字符的编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aracter Encoding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定一系列字符并赋予对应的编码后，所有这些字符和编码对组成的集合就是字符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aracter Set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提供了多种字符集，例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atin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tf8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bk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ollation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指在同一字符集内字符之间的比较规则。只有确定字符序后，才能在一个字符集上定义什么是等价的字符，以及字符之间的大小关系。每个字符序唯一对应一种字符集，一个字符集可以对应多种字符序，其中有一个是默认字符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Default Collation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4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集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集与字符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字符序命名规则：以字符序对应的字符集名称开头，以国家名居中（或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enera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居中），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s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i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末尾。例如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atin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集对应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atin1_swedish_c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atin1_spanish_c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atin1_german1_c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字符序。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尾的字符序表示大小写不敏感；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s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尾的字符序表示大小写敏感；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i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尾的字符序表示按编码值比较。例如在字符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bk_general_c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规则中，字符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'a'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'A'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等价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4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集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052640"/>
            <a:ext cx="8424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集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字符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cli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客户端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窗口）的字符集（未加说明的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atin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集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connectio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连接层字符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databas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当前选中数据库的字符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filesystem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文件系统的字符集，默认的字符集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in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results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结果集的字符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serve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的字符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system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元数据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段名、表名、数据库名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集，默认的字符集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tf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4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集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05264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字符集转换过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图片 140" descr=""/>
          <p:cNvPicPr/>
          <p:nvPr/>
        </p:nvPicPr>
        <p:blipFill>
          <a:blip r:embed="rId1"/>
          <a:stretch/>
        </p:blipFill>
        <p:spPr>
          <a:xfrm>
            <a:off x="174600" y="1765440"/>
            <a:ext cx="886464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4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集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052640"/>
            <a:ext cx="84247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置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字符集设置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bk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例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集的设置有三种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法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修改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.ini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配置文件，可修改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默认的字符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.ini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配置文件中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lient]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项组中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efault-character-se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参数值修改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bk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clien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connectio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及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results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参数的的默认值修改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bk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保存修改后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.ini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配置文件，这些字符集将在新打开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客户机中生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.ini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配置文件中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wampmysqld]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项组中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serve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参数值修改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bk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databas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及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serve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参数的默认值修改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bk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保存修改后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.ini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配置文件，重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，这些字符集将在新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进程中生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本章大纲</a:t>
            </a:r>
            <a:endParaRPr b="1" lang="en-US" sz="36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8-</a:t>
            </a: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 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数据库概述 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8-</a:t>
            </a: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 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数据库的设计 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8-</a:t>
            </a: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3 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MySQL</a:t>
            </a:r>
            <a:r>
              <a:rPr b="0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简介 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8-4  </a:t>
            </a:r>
            <a:r>
              <a:rPr b="0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字符集 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8-5  MySQL</a:t>
            </a:r>
            <a:r>
              <a:rPr b="0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数据库管理  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8-6  </a:t>
            </a:r>
            <a:r>
              <a:rPr b="0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数据库表的管理  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8-7  </a:t>
            </a:r>
            <a:r>
              <a:rPr b="0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表记录的更新操作  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8-8  </a:t>
            </a:r>
            <a:r>
              <a:rPr b="0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表记录的查询操作  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8-9  MySQL</a:t>
            </a:r>
            <a:r>
              <a:rPr b="0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特殊字符序列 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4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集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1052640"/>
            <a:ext cx="84247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置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法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供下列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，可以“临时地”修改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前会话的”字符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t character_set_client = gb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t character_set_connection = gb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t character_set_database = gb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t character_set_results = gb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t character_set_server = gb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4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集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052640"/>
            <a:ext cx="842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置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法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还可以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：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t names gbk;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次性地设置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cli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connectio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results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字符集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b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4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集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1052640"/>
            <a:ext cx="8424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脚本文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窗口上编辑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或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是很不方便的，更多时候需要将常用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封装为一个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脚本文件，然后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窗口上运行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脚本文件中的所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脚本文件的扩展名一般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窗口中输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：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\. C:\wamp\www\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\init.sql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ource C:\wamp\www\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\init.sql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可执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it.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脚本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5 MySQL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据库管理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052640"/>
            <a:ext cx="842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创建数据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当前操作的数据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显示数据库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删除数据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6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据库表的管理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reate tabl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的语法格式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reate table table_name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lumn_name1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类型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约束条件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lumn_namen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类型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约束条件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6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据库表的管理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052640"/>
            <a:ext cx="842472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类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数据类型，分别是数值类型、字符串类型和日期类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值类型之整数类型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值类型之精确小数类型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ecimal(size,d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iz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义最大位数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设置精度（小数点后的位数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类型之定长字符串类型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类型之变长字符串类型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ar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类型之文本类型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期类型之日期类型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期类型之日期时间类型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ate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6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据库表的管理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052640"/>
            <a:ext cx="842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附加属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提供了一些附加属性用于修饰数据类型，例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uto_incremen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供了附加属性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意义为“没有值”或“不确定的值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uto_inc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需要为某个表的某个字段进行唯一编号，以标识每条记录，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可以将该字段设置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uto_incremen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自动增长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6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据库表的管理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052640"/>
            <a:ext cx="842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创建数据库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创建数据库表的顺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创建父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创建子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987640" y="2421000"/>
            <a:ext cx="538632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6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据库表的管理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1052640"/>
            <a:ext cx="842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显示数据库表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escribe table_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ow create table table_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6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据库表的管理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105264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删除数据库表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rop table table_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1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据库概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052640"/>
            <a:ext cx="842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单地说，数据库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atabas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是存储、管理数据的容器；严格地说，数据库是“按照某种数据结构对数据进行组织、存储和管理的容器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观上，数据库中的二维表（简称数据库表）和电子表格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xce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相同的。数据库表是由列和行构成，数据库表中的一列称为一个字段，每个字段用于存储某种数据类型的数据；数据库表中的一行称为一条记录，每条记录包含表中的一条详细信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546200" y="4795920"/>
          <a:ext cx="7201080" cy="201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4795920"/>
                    <a:ext cx="720108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7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表记录的更新操作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1052640"/>
            <a:ext cx="8424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记录的添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sert into table_name [(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段列表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]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alues (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值列表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;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7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表记录的更新操作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1052640"/>
            <a:ext cx="842472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记录的修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pdate table_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t column_name = new_value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, next_column = new_value2…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where 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件表达式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7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表记录的更新操作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1052640"/>
            <a:ext cx="842472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记录的删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elete  from  table_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where 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件表达式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8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表记录的查询操作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1052640"/>
            <a:ext cx="8424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语法格式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段列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wher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滤条件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group by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组表达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having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组过滤条件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order by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排序表达式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asc|desc]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8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表记录的查询操作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1052640"/>
            <a:ext cx="84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定字段列表及列别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 version()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版本号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ow() as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当前时间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i() PI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值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+2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和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8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表记录的查询操作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052640"/>
            <a:ext cx="842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谓词限制记录的行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使用谓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istinc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滤重复记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用于查询数据库表中指定字段的所有数据，但是有时会出现重复信息。如果只希望查询那些具有不同记录值的记录信息，可以使用谓词关键字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istinc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语法格式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 distinct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列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8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表记录的查询操作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52640"/>
            <a:ext cx="8424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谓词限制记录的行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使用谓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imi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询某几行记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时，经常要返回前几条或者中间某几行记录，可以使用谓词关键字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imi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语法格式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段列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rom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imit [start,]lengt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imi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受一个或两个整数参数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从第几行记录开始输出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ength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输出的记录行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表中第一行记录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值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(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是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8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表记录的查询操作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1052640"/>
            <a:ext cx="842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rom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句指定多个数据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内连接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ner joi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连接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ner joi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将两个表中满足指定连接条件的记录连接成新的记录集，舍弃所有不满足连接条件的记录。内连接是最常用的连接类型，可以通过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句中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ner joi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现，语法格式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[innert] join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on &lt;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间条件表达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8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表记录的查询操作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1052640"/>
            <a:ext cx="8424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rom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句指定多个数据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内连接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ner joi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可以完成下列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功能选项中的哪一个功能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 student_id, student_no,student_name,classes.class_id,class_no,class_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rom student join classes on student.class_id=classes.class_i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功能选项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检索分配有班级的学生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功能选项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检索所有学生对应的班级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功能选项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检索所有班级的学生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8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表记录的查询操作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1052640"/>
            <a:ext cx="842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rom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句指定多个数据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外连接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uter joi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连接只限制一个表，对另一个表不加限制（该表的所有记录出现在结果集中）。外连接又分为左连接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eft joi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和右连接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ight joi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左连接的语法格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rom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 left  joi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 on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间的连接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1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据库概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052640"/>
            <a:ext cx="842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系数据库管理系统（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DBMS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数据库用户而言，“数据库管理系统”是数据库用户维护数据库的接口。主流的数据库管理系统仍然是关系数据库管理系统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DBMS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lational database management system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系数据库管理系统就是管理关系数据库的软件系统。关系数据库管理系统主要功能就是创建关系数据库，并且在关系数据库中创建各种数据库对象（表、索引、视图、存储过程等）以及维护各个数据库对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初学者而言，关系数据库管理系统最重要的功能莫过于创建数据库、创建数据库表以及完成数据库表记录的添加、修改、删除和查询等操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8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表记录的查询操作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052640"/>
            <a:ext cx="84247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rom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句指定多个数据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外连接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uter joi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左连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可以完成三个功能选项中的哪一个功能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 student_id, student_no,student_name,classes.class_id,class_no,class_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rom student left join classes on student.class_id=classes.class_i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功能选项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检索分配有班级的学生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功能选项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检索所有学生对应的班级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功能选项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检索所有班级的学生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8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表记录的查询操作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1052640"/>
            <a:ext cx="87138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rom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句指定多个数据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外连接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uter joi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右连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rom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 right  join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 on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间的连接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可以完成三个功能选项中的哪一个功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 student_id, student_no,student_name,classes.class_id,class_no,class_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rom student right join classes on student.class_id=classes.class_i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功能选项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检索分配有班级的学生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功能选项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检索所有学生对应的班级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功能选项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检索所有班级的学生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8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表记录的查询操作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324000" y="105264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here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句过滤记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here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件表达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8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表记录的查询操作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1052640"/>
            <a:ext cx="842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rder by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句对记录排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rder by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段名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 [asc|desc]  [… ,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段名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  [asc|desc]  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8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表记录的查询操作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聚合函数返回汇总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um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计算字段的累加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vg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计算字段的平均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u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统计记录的行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ax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计算字段的最大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计算字段的最小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8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表记录的查询操作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052640"/>
            <a:ext cx="842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roup by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句对记录分组统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roup by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aving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句提取符合条件的分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aving &lt;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询条件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80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9 MySQL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特殊字符序列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979640" y="1484280"/>
          <a:ext cx="5483160" cy="4052880"/>
        </p:xfrm>
        <a:graphic>
          <a:graphicData uri="http://schemas.openxmlformats.org/drawingml/2006/table">
            <a:tbl>
              <a:tblPr/>
              <a:tblGrid>
                <a:gridCol w="3043080"/>
                <a:gridCol w="24400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MySQ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中的特殊字符序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转义后的字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\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双引号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\'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单引号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'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\\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反斜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\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\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换行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\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回车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\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制表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\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SCII 0 (NUL)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字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\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SCII 8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退格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\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字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\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_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字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图片 4" descr="未命名"/>
          <p:cNvPicPr/>
          <p:nvPr/>
        </p:nvPicPr>
        <p:blipFill>
          <a:blip r:embed="rId1"/>
          <a:stretch/>
        </p:blipFill>
        <p:spPr>
          <a:xfrm>
            <a:off x="54000" y="263520"/>
            <a:ext cx="9042480" cy="61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1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据库概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052640"/>
            <a:ext cx="842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构化查询语言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构化查询语言的英文全称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uctured query languag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简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一种应用广泛的关系数据库语言，用于定义和管理关系数据库中的各种对象（表、索引、视图、存储过程等），也可以用于查询、修改和删除数据库表中的记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2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据库的设计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052640"/>
            <a:ext cx="8424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的设计一般要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-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型开始，之后的步骤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为每个实体建立一张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为每个表选择一个主键（建议添加一个没有实际意义的字段作为主键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增加外键以表示一对多关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建立新表表示多对多关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定义约束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评价关系的质量，并进行必要的改进（关于范式等知识请参考其他数据库书籍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为每个字段选择合适的数据类型和取值范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2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据库的设计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052640"/>
            <a:ext cx="842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-R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-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tity-Relationshi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模型即实体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系模型主要用于定义数据的存储需求，该模型已经广泛用于关系数据库设计中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-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型由实体、属性和关系三个基本要素构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2560" y="3079800"/>
          <a:ext cx="7345440" cy="35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3079800"/>
                    <a:ext cx="7345440" cy="35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2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据库的设计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052640"/>
            <a:ext cx="842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键（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imary Key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表要求表中的每一行记录都必须是唯一的，即在同一张表中不允许出现完全相同的两条记录。在设计数据库时，为了保证记录的“唯一性”，最为普遍、最为推荐的做法是为表定义一个主键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imary key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数据库表中主键有以下两个特征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表的主键可以由一个字段构成，也可以由多个字段构成（这种情况称为复合主键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数据库表中主键的值具有唯一性且不能取空值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UL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当数据库表中的主键由多个字段构成时，每个字段的值不能取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UL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2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据库的设计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052640"/>
            <a:ext cx="410364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体间的关系与外键（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eign Key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体间的关系可以通过外键来表示。如果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一个字段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应于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主键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字段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称为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外键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eign key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此时存储在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字段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值，要么是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UL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要么是来自于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键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值。通过外键可以表示实体间的关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995640" y="1268280"/>
          <a:ext cx="73375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268280"/>
                    <a:ext cx="73375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15:03:45Z</dcterms:created>
  <dc:creator>孔祥盛</dc:creator>
  <dc:description/>
  <cp:keywords/>
  <dc:language>en-US</dc:language>
  <cp:lastModifiedBy>微软用户</cp:lastModifiedBy>
  <dcterms:modified xsi:type="dcterms:W3CDTF">2016-05-25T08:46:59Z</dcterms:modified>
  <cp:revision>514</cp:revision>
  <dc:subject/>
  <dc:title>PHP编程基础与实例教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