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74E-414B-4A57-88F6-F96CFADF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501-C9FA-4DFA-AC22-DCAF857D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A32-D186-4A92-B0AB-69D53398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8CE-4D8C-4275-A717-D53BE5D5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A70-3D46-4004-90BE-CDEF23A1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ED2-FD72-42D6-9B36-89870396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BAC-A20A-47F5-9074-8848F511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25E-C015-4E9C-A5FD-B3A607AA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CDE-D228-4153-89E1-3D4A9A0D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CE4-47E0-4E9A-BE6F-26D9839E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37B-1C9C-4DC6-B38D-31C7F6F6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EA1-6C91-4164-98FC-88A25337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1F1E-47C2-4A84-A2DD-67A129CD970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2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字符串处理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052640"/>
            <a:ext cx="8821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字符处理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specialchar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p_tag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p_tag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ip_tags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功能：剔除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avaScrip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标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字符串格式化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rintf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printf(string format, arg1,arg2,…,ar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rintf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a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式化后的字符串。字符串参数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a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包含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转换格式，每个转换格式以百分号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开始；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g1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g2…argn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参数值替换参数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a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对应的转换格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printf(string format, arg1,arg2,…,ar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字符串参数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a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式化后的字符串值打印到浏览器页面上，该函数返回格式化后字符串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411280" y="2432160"/>
          <a:ext cx="5400720" cy="4389480"/>
        </p:xfrm>
        <a:graphic>
          <a:graphicData uri="http://schemas.openxmlformats.org/drawingml/2006/table">
            <a:tbl>
              <a:tblPr/>
              <a:tblGrid>
                <a:gridCol w="1449360"/>
                <a:gridCol w="3951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格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打印百分比符号，不转换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二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对应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SCII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字符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十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可续计数法（比如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5e+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浮点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八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字符串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无符号十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小写十六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大写十六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-999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长度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len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trlen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节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len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b_strlen ( string str [, string encoding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len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len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设置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解析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若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设为“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”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“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2312”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使用中文编码方式解析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将一个汉字按照两个字节进行解析，多余的字节将忽略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使用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len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时，必须确保配置选项“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tension=php_mbstring.dll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取出指定位置的子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ubstr ( string str, int start [, int length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中位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索引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+leng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索引之间的子字符串。若没有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，则返回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索引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末尾的子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ubstr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b_substr ( string str, int start [, int length [, string encoding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ubstr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设置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解析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取出指定位置的子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cu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b_strcut ( string str, int start [, int length [, string encoding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ubstr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cu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字符串中的每个字符按照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节长度解析，对于占用两个字节的中文汉字，截取时多余的一个字节将舍去，从而避免中文乱码问题的发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字符串中查找指定子字符串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trpos(string str,string substr[,int offset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以区分大小写的方式查找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次出现的索引，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则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可选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函数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索引位置开始查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字符串中查找指定子字符串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trrpos(string str,string substr[,int offset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以区分大小写的方式查找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次出现的位置，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则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可选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函数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索引位置开始查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字符串中查找指定子字符串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b_strpos(string str,string substr [, int offset [, string encoding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设置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解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b_strrpos(string str,string substr [, int offset [, string encoding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设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解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052640"/>
            <a:ext cx="8424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出字符串中指定子串的剩余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st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str(string str,string sub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取出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开始的剩余子串，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中没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串，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该函数区分大小写，该函数的别名是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ch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st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istr(string str,string sub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取出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开始的剩余子串，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中没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串，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子字符串出现的频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_cou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ubstr_count ( string str, string sub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出现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次数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ubstr_cou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b_substr_count ( string str, string substring [, string encoding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_cou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ubstr_cou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设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解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字符串的指定方法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字符串处理函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中的字符串处理函数的应用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比较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cmp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trcmp ( string str1, string str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以区分大小写的方式比较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若两个字符串相等，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若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于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函数返回大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整数；若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于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函数返回小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整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casecmp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trcmp ( string str1, string str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以不区分大小写的方式比较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若两个字符串相等，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若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于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函数返回大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整数；若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于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函数返回小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整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连接和分割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mplod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implode (string glue, array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使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元素连接成一个新字符串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mplod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实现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plod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相反的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tok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tok (string str, string sepa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使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parat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一次分割，若要进行多次分割，需要连续调用该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说明：在第一次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tok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时，需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；在以后的调用过程中，不需要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052640"/>
            <a:ext cx="8424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替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_replac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str_replace(mixed search, mixed replacement, mixed 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以区分大小写的方式将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替换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plac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_replac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substr_replace ( mixed str, string replacement, int start [, int length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置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+lengt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置之间的字符串替换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plac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若没有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，则替换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末尾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替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t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tr(string str,array replac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所有字符串转换为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placement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相应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UR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析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rse_url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parse_url ( string ur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解析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，以数组方式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部分，包括协议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chem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主机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端口号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户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密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路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程序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片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ag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rse_st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parse_str ( string query_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查询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ery_str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所有的“参数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值”解析为变量（参数名为变量名，值为参数值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UR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义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en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urlencode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查询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特殊字符转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de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urldecode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于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encode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“编码”后的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码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由于浏览器会自动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decode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转义后的字符串进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decode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，因此一般不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de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，除非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了两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en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UR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义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awurlen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rawurlencode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en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awurldecode 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rawurldecode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于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awurlencode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“编码”后的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码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UR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构造查询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_build_query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http_build_query ( array formdata [, string prefix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dat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换成查询字符串，查询字符串中的“参数名”来自于数组元素的“键名”，查询字符串中的“参数值”来自于数组元素中的“值”。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efi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查询字符串中数字键的前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052640"/>
            <a:ext cx="8424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的字符串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rev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rev(string 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英文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颠倒过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_repea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_repeat(string str, int ti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重复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定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me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convert_encoding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b_convert_encoding (string str, string to_encoding [, mixed from_encoding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_encod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转换成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o_encod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3 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中的字符串处理函数的应用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的字符串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模糊查询中关键字两边的空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文件下载功能的代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发表评论功能的代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优化新闻列表显示功能的代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模糊查询时关键字以加粗倾斜格式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优化分页函数代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的指定方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单引号指定字符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双引号指定字符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定界符指定字符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781360"/>
            <a:ext cx="6769080" cy="393444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name = "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ubmit = "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my_form = &lt;&lt;&lt;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名：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text" name="name" value="$name"&gt;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 码 ：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password" name="password"&gt;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submit" value="$submit"&gt;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my_for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的指定方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中的字符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是由零个或多个字符组成的有限序列，可以通过字符串的索引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检索字符串中的单个字符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计数）。符串的索引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；检索字符串中的单个字符时可以使用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index]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index}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式取得该索引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应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字符串裁剪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裁剪函数包括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im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rim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trim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充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_pad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_pad ( string str, int pad_length [, string pad_string [, int pad_type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填充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string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充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得填充后的字符串长度增加到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length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符长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换行符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n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换成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行符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l2b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nl2br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l2br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将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换行符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n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换成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行符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大小写转换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了四个字符串大小写转换的函数，可以将字符串中的字符转换为大写或小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toupp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tolow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cfirs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cword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预定义字符前添加或删除反斜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ddslashe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addslashes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预定义字符前添加反斜线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这些预定义字符是：单引号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'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引号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"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反斜线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\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pslashe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ipslashes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pslashe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用于删除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反斜线，经常用于删除由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ddslashe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添加的反斜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87850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字符处理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specialchar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p_tag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specialchar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htmlspecialchars(string str,flags,character_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功能：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特殊字符（如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amp;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'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转换成对应的预定义实体，以便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析器将预定义实体还原为对应的特殊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lags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的功能就是指定需要转换的双引号还是单引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的功能就是指定转换过程中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specialchar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识别的字符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7:30Z</dcterms:modified>
  <cp:revision>574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