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7BE-2094-466C-82BC-32F35F25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02E-9571-46A8-AF97-0A34CB1F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D20-9DC5-4C81-948C-3B9E9A73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455-6B6C-457E-9F70-077F48AC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81A-F17C-4498-81F5-63A824DA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807-378F-46D2-B496-E9719B9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626-57E5-4BE5-9C4D-868697B1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EE-01DD-4B07-8B32-24F5E269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EE9-1D16-47DE-A52E-A5399ACB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8F0-BB52-477F-967C-B432937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4F9-E83C-4C15-97C5-5E67C47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C30-C00D-482A-8741-5C3490A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7FE-C07F-4C81-8C87-7BFF9687765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800" y="1125000"/>
            <a:ext cx="8205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与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可以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此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返回一个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据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查看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查询到的表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num_rows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记录的行数，该函数仅对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用过后，应该尽快地将其占用的服务器内存资源释放，可以使用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free_result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函数功能：释放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用的服务器内存资源。若执行成功，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可以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结果集中的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row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从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得下一行记录，并将该记录生成一个数组，数组的元素的键为从零开始的整数，数组元素的值依次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“字段列表”的值。若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没有下一行记录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结果集中的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arra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array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arra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该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扩展版本，该函数的返回值中除了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返回值，还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“字段列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值”的数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5264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与关闭最佳时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1630440"/>
            <a:ext cx="8928000" cy="4143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student_query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bLink = @mysql_select_db("student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数据库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lectSQL = "select * from student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mysql_query($selectSQL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$student = mysql_fetch_array($resultSet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id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o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ame'].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133720"/>
            <a:ext cx="7993080" cy="4143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student_query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lectSQL = "select * from student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mysql_query($selectSQL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$student = mysql_fetch_array($resultSet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id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o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ame'].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bLink = @mysql_select_db("student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数据库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05264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与关闭函数的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080" y="1844640"/>
            <a:ext cx="8604000" cy="4569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Connection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getConnection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hostname = "localhost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主机名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 = "users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"root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用户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"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密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 $databaseConnec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Connection = @mysql_connect($hostname, $userName, $password) or die(mysql_error())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数据库服务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字符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@mysql_select_db($database, $databaseConnection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closeConnection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 $databaseConnec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databaseConnection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databaseConnection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表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list_tabl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tablenam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068640"/>
            <a:ext cx="8064360" cy="2438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_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@mysql_list_tables("stud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 = 0; $i &lt; mysql_num_rows($resultSet)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 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%s&lt;br/&gt;", mysql_tablename($resultSet, $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_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并发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db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field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num_fields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字段的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name ( resource result, int field_inde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字段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指定字段索引的字段名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inde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中常用的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操作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中其它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操作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用户注册系统的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4 SQL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注入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name ( resource result, int field_inde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字段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指定字段索引的字段名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inde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typ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type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type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指定字段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len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field_len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flag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flags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从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得和指定字段关联的标志。每个标记对应一个单词，之间用一个空格分开。这些标记有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not_null", "primary_key", "unique_key", "multiple_key", "blob", "unsigned", "zerofill", "binary", "enum", "auto_increment", "timestamp"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052640"/>
            <a:ext cx="88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length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lengths ( resource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每个字段内容的长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8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resul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ysql_result ( resource result, int row [, mixed field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一个字段的字段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820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no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errno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的错误代码，如果没有出错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零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no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仅返回最近一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错误代码，因此应该尽早地调用该函数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o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error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产生的错误文本信息，如果没有出错则返回””空字符串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o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仅返回最近一次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错误文本信息，因此应该尽早地调用该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用户注册系统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系统文件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界面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实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用户注册系统所需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功能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登录页面的实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登录功能的简单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测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4 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入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5264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关闭时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用用户名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’‘=’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密码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’‘=’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系统时，系统永远可以登录成功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一些非法用户就可以乘虚而入，成功登陆系统，这就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Inj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产生的原因是由于某些特殊字符打乱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本身的逻辑，使数据库服务器引擎错误的执行了某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4 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入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5264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引擎不会自动过滤特殊字符，因此防止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发生的方法是：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过滤特殊字符。以用户注册系统为例，有两种解决方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一：当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关闭时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方式提交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二：将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开启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自动将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方式提交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方案二仅适用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5.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前的版本。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5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开始，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必须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最简单的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onne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 mysql_connect (string hostname,string username,string passwor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通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。如果成功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则返回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052640"/>
            <a:ext cx="8424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数据库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close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关闭指定的连接标识所关联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连接。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关闭上一个打开的连接。如果关闭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失败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select_db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设置当前操作的数据库，该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select_db ( string database_name [, 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符，则使用上一个打开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。如果没有打开的连接，本函数将无参数调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onne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尝试打开一个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然后使用它。如果选择当前操作的数据库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bool|resouce} mysql_query ( string sql [, 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已打开的连接。然后向数据库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）。当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执行失败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并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成功执行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并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成功执行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类型的数据（实际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型的数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后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查看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影响到的表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affected_rows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近一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联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所影响的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某个数据库表中添加记录时，若该数据库表中的某个字段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增字段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得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执行后的该字段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insert_id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给定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产生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；如果没有指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上一个打开的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06Z</dcterms:modified>
  <cp:revision>48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