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AF9-C2F1-4400-A30A-2C36FF1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D2B-C57A-4904-A7CC-6435A6AC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CCD-9A3F-44E9-A1CF-321FA355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40B-B0B5-4B9B-ABB5-119B4634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F30-4074-4C74-944B-121C0A83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8E7-98CD-4630-8210-AB38AE42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776-1EDF-483C-9C39-4C4956C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A75-50BD-4B31-A050-09536238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D52-BD0F-492A-A220-249EEDAC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056-1CB3-4A84-B217-7A1C3496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05E-AB65-4BD5-8AEA-EE9A6C7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9F7-2A5B-42BC-989B-1196403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EAC-D244-4539-B765-97F67E76D22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62472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页面美工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高级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改语言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改皮肤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添加中文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回车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工具栏展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的文字颜色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的文字字号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工具栏集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olbar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表情文件所在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表情文件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线编辑器中表情按钮的其它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新闻发布系统中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989000"/>
            <a:ext cx="8280360" cy="307764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以新闻添加页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news_add.ph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代码为例，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news_add.ph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程序中的代码片段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textarea cols="60" rows="16" name="content"&gt;&lt;/textarea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修改为如下代码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?ph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include("fckeditor/fckeditor.php");/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载入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类文件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 = new FCKeditor('content');  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创建名称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cont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在线编辑器，实例名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BasePath = 'fckeditor/';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根目录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Width = 550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宽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Height = 350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高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Value = 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请在此输入新闻的内容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内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ToolbarSet = "Default"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工具栏集合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Config['EnterMode'] = 'br'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额外配置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Create() 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显示在线编辑器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代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84247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文件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文件浏览”功能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快速文件上传”功能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中文乱码问题的解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文件管理的高级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瘦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146240"/>
            <a:ext cx="84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V+CS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面布局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1555920"/>
            <a:ext cx="4175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" y="-27360"/>
            <a:ext cx="88772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8135640" cy="183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146240"/>
            <a:ext cx="84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V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页面布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图片素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2384280"/>
            <a:ext cx="82090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116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628640"/>
            <a:ext cx="4176720" cy="456948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od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ont:12px 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宋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text-align: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FF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contain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8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head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8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menu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8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74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:url("../images/logo.gif") no-repe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557360"/>
            <a:ext cx="4464000" cy="4569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bann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778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177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:url('../images/banner.jpg') no-repe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pagebod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778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sideba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163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loat:lef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BDBDB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login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10px 0px 0px 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2276640"/>
            <a:ext cx="5472360" cy="350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mainbod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text-align:lef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61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loat: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D8D8D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mainfunction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10px 0px 0px 1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foot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778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4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FFCC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001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ade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pagebod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foote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实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4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静态和动态页面的嵌入</a:t>
            </a:r>
            <a:endParaRPr b="1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18440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用户管理功能嵌入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i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nu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代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主要功能嵌入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infunctio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sideba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inbod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高度自适应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图片太宽撑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inbod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JavaScript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脚本语言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在线编辑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页面布局的实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4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静态和动态页面的嵌入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1 JavaScript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语言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．删除新闻信息前弹出用户确定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提供新闻编辑的撤销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前的准备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InstanceNam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的名称（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该成员变量需要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构造方法一起使用才有意义。例如代码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 = new FCKeditor('content'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造了一个名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在线编辑器，该在线编辑器的实例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线编辑器的名称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类似于多行文本框表单控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xtare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名称；通过实例名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可以访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中的其它成员变量，并可以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BasePa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目录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目录实际上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_php5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config.j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所在的目录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BasePath = 'fckeditor/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Wid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实例的宽度（单位像素），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Width = 5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Heigh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实例的高度（单位像素），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Height = 3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的内容，一般对应于多行文本框表单控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xtare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。例如代码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Value = 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在此输入新闻的内容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ToolbarSe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实例的工具栏集合。默认情况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si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具栏集合，工具栏集合类似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口中的格式工具栏与常用工具栏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ToolbarSet = "Default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ToolbarSet = "Basic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Confi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的额外配置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数组，数组中的“键”来自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config.j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中的“属性名”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Config['EnterMode'] = 'br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function __construct( $instanceNam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构造方法。需要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stanceNa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使用才有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function CreateHtm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某个在线编辑器实例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fckeditor = $oFCKeditor-&gt;CreateHtml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function Cre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网页上显示某个在线编辑器实例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Create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36Z</dcterms:modified>
  <cp:revision>516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