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EF7-0F42-485C-B432-022A7A3C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C5A-85D0-47FF-BA4C-D2DCF660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EE4-B86B-4397-A4B5-B94129D5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70C-3D16-48E0-BB14-40B88090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678-6204-43DB-AF04-BE93A95B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A91-6B7F-439E-A2B1-8CBFEE07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D3C-FE42-405D-A47B-ACAF77ED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971-32DE-4780-A9FE-978D7AC1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AD9-F37F-42D5-A606-EF32A179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4F2-D255-47F5-AB1C-FC75CE21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C04-0737-42D9-B72A-305F260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B12-489D-4E51-9C1B-18DB42BA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C42B-1161-469B-B056-CBD5F6B0529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200" y="1125000"/>
            <a:ext cx="8209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流程控制语句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其他流程控制语句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一般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…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结构中使用。在循环结构中，当程序执行至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程序将跳过本次循环中剩余的代码并开始执行下一次循环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是计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3+5+…+99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奇数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789360"/>
            <a:ext cx="6048360" cy="222516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m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$i=1;$i&lt;=100;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i%2==0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m = $sum + $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7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其他流程控制语句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中使用时，它会使程序跳出当前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还可以使用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…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中，使得程序跳出当前循环结构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时计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2+3+…+10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500280"/>
            <a:ext cx="4895640" cy="222516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m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$i=1;;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m = $sum+$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i==100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其他流程控制语句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止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运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exit ( [string message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功能：输出字符串信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终止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。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程序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3213000"/>
            <a:ext cx="4608360" cy="94644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@($a = 2/0) or exit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生被零除错误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exit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面的语句将不会运行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35640" y="2781360"/>
            <a:ext cx="280836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486900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运行结果可以看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使用逻辑或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表达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a or $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强制只有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结果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会执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某个表达式运行失败时，该表达式的结果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条件控制结构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循环结构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其他流程控制语句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条件控制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的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48240" y="1413000"/>
            <a:ext cx="2255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条件控制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if…else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…e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的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else{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81680" y="155736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条件控制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052640"/>
            <a:ext cx="84247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switch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的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表达式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s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s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51160" y="1413000"/>
            <a:ext cx="45975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循环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是最简单的循环语句，它的语法格式跟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相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条件表达式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29512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循环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…whil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…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的语法格式如下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{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while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22920" y="1484280"/>
            <a:ext cx="22338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循环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的语法格式如下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;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;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中，各表达式的功能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是初始化循环控制变量，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执行一次，并且不是必需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循环控制条件，若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执行语句块；若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跳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。条件    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不是必需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是修改循环控制变量的值。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不是必需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33960" y="260280"/>
            <a:ext cx="31100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循环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结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ine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结构制作九九乘法表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349360"/>
            <a:ext cx="6337080" cy="371700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strong&gt;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九乘法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strong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table border="1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 ($c=1;$c&lt;=9;$c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tr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 ($d=$c;$d&lt;=9;$d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td align='right'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c."×".$d."=".$c*$d."&amp;nbsp;&amp;nbsp;&amp;nbsp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/td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/tr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tr/&gt;&lt;t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table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43480" y="4351320"/>
            <a:ext cx="43052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dc:language>en-US</dc:language>
  <cp:lastModifiedBy>微软用户</cp:lastModifiedBy>
  <dcterms:modified xsi:type="dcterms:W3CDTF">2016-05-25T08:46:27Z</dcterms:modified>
  <cp:revision>211</cp:revision>
  <dc:subject/>
  <dc:title>PHP编程基础与实例教程</dc:title>
</cp:coreProperties>
</file>