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339-CAE0-4D5F-BB84-36C0FD7C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0E3-4C5D-4796-9128-429B480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93C-9878-4ADC-9D9E-44D79BC3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234-A347-41D8-B196-FFFB9AD2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1E7-4E0C-479A-B10C-F907F299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06E-A373-428D-B78C-D26F529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0F2-2E96-4F84-A8A7-6ADFEF2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2F6-FC6C-4977-8F03-A6A284FE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025-8C46-443E-B38D-04A575D5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D5F-151F-4772-A4A3-32378CC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BB8-393E-44CA-9095-44E3E50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008-CCA8-4BB2-A41C-5325F4E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711-8FB0-4652-A6A5-3C77098808F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8292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6920" y="112500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入门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那一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它们主要提供两个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大量的网络资源以供浏览器用户访问。典型的网络资源包括静态页面、动态页面以及各种多媒体网络资源（例如图片、音频、视频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s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资源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静态页面通常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html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htm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文件扩展名；动态页面通常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文件扩展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HTT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yperText Transfer Protoco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超文本传输协议）的缩写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与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通过网络进行无状态通信的一套规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：无状态是指当一个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向某个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页面发送请求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e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收到该请求进行处理，然后将处理结果作为响应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pons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返回给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与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都不保留当前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的相关信息。也就是说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打开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一个网页，和之前打开这个服务器上的另一个网页之间没有任何联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HTT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请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equest)/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应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esponse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，所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连接都被构造成一对儿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应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类型多种多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请求方法的不同，可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分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A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PTIONS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ARC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，其中最为常用的请求方法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请求的资源类型不同，可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分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态请求以及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请求。当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访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静态页面时，此时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为静态请求；反之亦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存储、管理数据的容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容器通常包含诸多数据库对象，如表、视图、索引、函数、存储过程、触发器等，这些数据库对象最终都是以文件的形式存储在外存（例如硬盘）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37120" y="838080"/>
            <a:ext cx="4610160" cy="598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8000" y="170172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“数据库管理系统”，数据库用户可以轻松地实现数据库容器中各种数据库对象的访问（增、删、改、查等操作），并可以轻松地完成数据库的维护工作（备份、恢复、修复等操作），如图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有数据库管理系统软件的计算机称为数据库服务器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 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成熟的数据库管理系统主要源自欧美数据库厂商，典型的有美国甲骨文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美国微软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ces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德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及美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B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formi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等级考试中，有关数据库的考试科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级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ces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级：数据库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级：数据库工程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管理系统重要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工作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0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前准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.ex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程序，推荐使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启动后，默认会占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启动后，默认会占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06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这两个端口号已经被占用时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或者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则会启动失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肿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入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tstat-aon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查看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杀死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执行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kill PID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杀死该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通过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找进程名，命令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asklist | findstr "PID"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管理器杀死该进程名的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较为简单，这里不再赘述。安装成功后，打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址栏中输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localhost/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127.0.0.1/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车，若出现如图所示界面，说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且启动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116" descr=""/>
          <p:cNvPicPr/>
          <p:nvPr/>
        </p:nvPicPr>
        <p:blipFill>
          <a:blip r:embed="rId1"/>
          <a:stretch/>
        </p:blipFill>
        <p:spPr>
          <a:xfrm>
            <a:off x="2198520" y="3429000"/>
            <a:ext cx="5637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启动与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包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可以选择“手动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”或“操作系统自动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”两种方法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的启动、停止，实际上对应的是进程的启动与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概况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脚本程序工作流程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服务器构建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6624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个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为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:\wamp\www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下新建一个名字为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目录，并在该目录下新建一个文本文档（扩展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x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然后将该文件名称从“新建文本文档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txt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为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记事本方式打开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，然后输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.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存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内容后，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打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，在地址栏中输入地址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localhost/1/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按“回车”键。如果看到如图所示的页面，则第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编写、运行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0360" y="414360"/>
            <a:ext cx="302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区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其它常用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允许外网访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默认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起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主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虚拟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o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账户设置密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优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展到今天，具备了很多优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易学好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免费开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良好的可扩展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平台无关性（跨平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功能全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据库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面向对象编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应用领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以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应用领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端脚本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命令行脚本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桌面应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写服务器端脚本程序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常用的应用领域，这也是本课程着重阐述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HTM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嵌式的脚本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程序中可包含文本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4560" y="2997360"/>
            <a:ext cx="3744720" cy="311148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我的第一个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637000"/>
            <a:ext cx="35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通常以符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，符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这两个符号分别叫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和结束标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文件名中的扩展名通常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也叫网页浏览器，简称浏览器。浏览器是用户最为常用的客户端程序，主要功能是显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页内容，并让用户与这些网页内容产生互动。常见的浏览器有微软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 Explor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简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浏览器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zilla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refo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ypertext Markup Languag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超文本标记语言）的缩写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是网页的静态内容，这些静态内容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产生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识别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并解释执行。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识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解析为一个换行。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开发过程中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主要负责页面的互动、布局和美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Preprocess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功能是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解释为文本信息，这些文本信息中可以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也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ld Wide 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，简单地说，安装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的计算机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有微软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 Information 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I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软件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B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Sphe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以及开源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免费、速度快且性能稳定等特点，它已成为目前最为流行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，本书将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部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5:40Z</dcterms:modified>
  <cp:revision>173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