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7B84-DDA9-4E12-AC57-953CE505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7A84-5860-4F94-8BE4-2886B0B3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54D2-341C-4A26-8452-488FDD0E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6E2-394A-48C0-8D04-5AF98E10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BA20-7633-48CD-BA37-ECA20AE3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B8A0-43E2-40D0-8A76-88379399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CE46-7233-43B9-B182-2313F080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477F-1CDA-4038-B861-9210E9B4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1427-651A-4C94-B052-F03BC3BD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093E-944C-4F52-923B-BC13E362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3921-548E-438F-8C85-2388F558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81E1-6EF6-4919-86FB-26B30467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0389-31E0-4D36-94D0-1E8CB46B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6AB0-D5A2-4566-BB57-43799FDA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B4CC-4E1D-445B-9B36-EC16C6CE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9C63-A525-4981-8C9E-3EF40B17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BE18-EC87-4FDF-B463-A86A52D1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260C-08A8-4354-9E39-23182F4B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144-CFC4-49DE-860E-44666DFB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01A1-B444-4C5F-BD33-8A2CC383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A8D7-2597-4F79-ADF8-663C4F9B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D774-982B-4D81-9383-87509B2F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095F-C9B8-4EBB-B90D-2735729C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C92-6610-4173-B191-283DD232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CBC5-4D16-4E6C-81F2-4C5F49366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77800" y="649116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PHP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编程基础与实例教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5B0D-F9F8-4132-8D83-7823C2600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77800" y="649116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PHP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编程基础与实例教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79898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Web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设计</a:t>
            </a:r>
            <a:endParaRPr b="1" lang="en-US" sz="5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华文楷体"/>
                <a:ea typeface="华文楷体"/>
              </a:rPr>
              <a:t>任课教师：郭健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华文楷体"/>
                <a:ea typeface="华文楷体"/>
              </a:rPr>
              <a:t>Tel</a:t>
            </a:r>
            <a:r>
              <a:rPr b="0" lang="zh-CN" sz="3200" spc="-1" strike="noStrike">
                <a:solidFill>
                  <a:srgbClr val="003399"/>
                </a:solidFill>
                <a:latin typeface="华文楷体"/>
                <a:ea typeface="华文楷体"/>
              </a:rPr>
              <a:t>：</a:t>
            </a:r>
            <a:r>
              <a:rPr b="0" lang="zh-CN" sz="3200" spc="-1" strike="noStrike">
                <a:solidFill>
                  <a:srgbClr val="003399"/>
                </a:solidFill>
                <a:latin typeface="华文楷体"/>
                <a:ea typeface="华文楷体"/>
              </a:rPr>
              <a:t>13001356243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华文楷体"/>
                <a:ea typeface="华文楷体"/>
              </a:rPr>
              <a:t>Email</a:t>
            </a:r>
            <a:r>
              <a:rPr b="0" lang="zh-CN" sz="3200" spc="-1" strike="noStrike">
                <a:solidFill>
                  <a:srgbClr val="003399"/>
                </a:solidFill>
                <a:latin typeface="华文楷体"/>
                <a:ea typeface="华文楷体"/>
              </a:rPr>
              <a:t>：</a:t>
            </a:r>
            <a:r>
              <a:rPr b="0" lang="zh-CN" sz="3200" spc="-1" strike="noStrike">
                <a:solidFill>
                  <a:srgbClr val="003399"/>
                </a:solidFill>
                <a:latin typeface="华文楷体"/>
                <a:ea typeface="华文楷体"/>
              </a:rPr>
              <a:t>guoj76@126.com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05264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于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与传统的高级语言一样</a:t>
            </a:r>
            <a:r>
              <a:rPr b="0" lang="zh-CN" sz="2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的地方</a:t>
            </a:r>
            <a:r>
              <a:rPr b="0" lang="en-US" sz="2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变量或常量实现数据在内存中的存储，并使用变量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userName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常量名（例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I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实现了内存数据的按名存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等于号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赋值运算符）给变量赋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允许直接访问一个未经初始化的变量，否则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处理器会提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oti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供变量作用域的概念实现内存数据的安全访问控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入了数据类型的概念修饰和管理数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与传统的高级语言不一样</a:t>
            </a:r>
            <a:r>
              <a:rPr b="0" lang="zh-CN" sz="2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的地方</a:t>
            </a:r>
            <a:r>
              <a:rPr b="0" lang="en-US" sz="2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名之前要加美元符号“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识，例如 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serNam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一种“弱类型的语言”，声明变量或常量时，不需要事先声明变量或常量的数据类型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自动由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处理器根据变量的值将变量转换成适当的数据类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类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类型分为四种：标量数据类型、复合数据类型、特殊数据类型和伪类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量数据类型共有四种：布尔型、整型、浮点型和字符串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合数据类型共有两种：数组和对象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数据类型有资源数据类型和空数据类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伪类型通常在函数的定义中使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端的数据采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端数据的采集主要依靠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供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单实现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单是包含一系列表单元素的区域，表单元素是允许用户在表单中输入信息的元素。常见的表单元素有：文本域、下拉列表、单选框、复选框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的代码是简单的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户注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单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代码，该表单的显示效果如图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2200" y="4508640"/>
            <a:ext cx="5905440" cy="20120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form action="register.php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 户 名：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input type="text" name="userName"/&gt;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amp;nbsp;&amp;nbsp;&amp;nbsp;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码 ：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input type="password" name="password"/&gt;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确认密码：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input type="password" name="confirmPassword"/&gt;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input type="submit" value=" 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 交 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input type="reset" value=" 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 填 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72360" y="4437000"/>
            <a:ext cx="257472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105264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的数据采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gister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负责采集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户注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单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交的数据，然后进行显示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3357720"/>
            <a:ext cx="7848720" cy="24382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userName = $_GET["userName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password = $_GET["password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onfirmPassword = $_GET["confirmPassword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代码输出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userName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、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password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、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onfirmPassword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的值，并输出换行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userNam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&lt;br/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passwor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&lt;br/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confirmPasswor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改后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gister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负责采集表单提交数据，然后对这些数据进行简单处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2852640"/>
            <a:ext cx="5832360" cy="28645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userName = $_GET["userName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password = $_GET["password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onfirmPassword = $_GET["confirmPassword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($password == $confirmPassword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可以注册了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&lt;br/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加密后的密码为：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md5($passwor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else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输入的密码和确认密码不一致，请重新注册！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05264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的输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常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向浏览器输出字符串数据，除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外，还可以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f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向浏览器输出字符串数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出的是没有经过格式化的字符串，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f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则是输出经过格式化的字符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复合数据类型的数据（如数组或对象），可选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_r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输出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块中只嵌入一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，且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是一条输出语句，此时可以使用输出运算符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= ?&gt;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出字符串数据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3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编码规范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写规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缩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大括号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运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876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3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服务器构建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名规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常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数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数据库表字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类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3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服务器构建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代码添加注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件开发是一种高级脑力劳动，精妙的算法之后往往伴随着难以理解的代码，对于不经常维护的代码，往往连开发者本人也忘记编写的初衷。要为代码添加注释，增强代码的可读性和可维护性。有时添加注释和编写代码一样难，但养成这样的习惯是必要的。请记住：尽最大努力把方便留给别人和将来的自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79898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第二章 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基础</a:t>
            </a:r>
            <a:endParaRPr b="1" lang="en-US" sz="5400" spc="-1" strike="noStrike">
              <a:solidFill>
                <a:srgbClr val="ff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92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开发工具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记事本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Notepad++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NetBeans IDE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92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第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章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基础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.1 PHP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代码基本语法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.2 PHP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程序的组成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.3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编码规范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代码基本语法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052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一种在服务器端执行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嵌式的脚本语言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可以嵌入到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中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也可嵌入到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中，例如，程序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WithPHP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82119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代码基本语法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05264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标记与结束标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开始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结束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开始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script language="php"&gt;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结束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/script&gt;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开始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结束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开始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%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结束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%&gt;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1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代码基本语法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PHP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支持如下三种注释风格（例如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nnotation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种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行注释风格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种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行注释风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种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#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行注释风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3357720"/>
            <a:ext cx="6481800" cy="32907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行注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件依次输出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llo world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  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换行符   系统当前时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hello world!";//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行注释，该语句输出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llo world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&lt;br/&gt;";#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行注释，该语句输出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llo world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date("Y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);//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行注释，该语句输出系统当前时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!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在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标签和结束标签之外的代码为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里演示的是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注释风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释和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注释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1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代码基本语法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05264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PHP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及语句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一般由若干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构成，每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完成某项操作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每条语句以英文分号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束，只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束标记之前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可以省略结尾分号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多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之间密不可分，可以使用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{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这些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包含起来形成语句块。单独使用语句块时没有任何意义，语句块只有和条件控制语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-e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循环语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函数等一起使用时才有意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功能的角度，完整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可以划分为三个组成部分：数据的采集、数据的处理和数据的输出，其中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数据采集主要包括三个过程：浏览器端的数据采集、浏览器端数据的提交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的数据采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5:03:45Z</dcterms:created>
  <dc:creator>孔祥盛</dc:creator>
  <dc:description/>
  <dc:language>en-US</dc:language>
  <cp:lastModifiedBy>User</cp:lastModifiedBy>
  <cp:lastPrinted>1899-12-30T00:00:00Z</cp:lastPrinted>
  <dcterms:modified xsi:type="dcterms:W3CDTF">2011-09-06T01:13:23Z</dcterms:modified>
  <cp:revision>249</cp:revision>
  <dc:subject/>
  <dc:title>PHP编程基础与实例教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