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F15-F8B1-4961-AE8A-BB19DC60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192-6ACD-402E-93E4-9DA44F6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56B-EC01-4560-A2A9-C10041C9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C31-0E13-4BDC-A9E0-9D180ABA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7A3-6604-4017-947E-2EB7DE6E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343-3F43-485F-9A15-D784445A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64C-A3F6-4A9F-8212-B18DA32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710-3BE2-47BD-8D28-428AE28E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95C-A1C1-4E2F-8514-FFD658D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C24-9E2F-4217-9640-51C1AD4A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C5F-77D5-4563-93E6-7C99EFE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099-E343-4059-9ED9-24A43DDE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未知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未知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未知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未知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未知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86F-EF3A-4872-BB3E-8AC1F8F2B7B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440" y="20520"/>
            <a:ext cx="9138960" cy="6858000"/>
            <a:chOff x="-1440" y="20520"/>
            <a:chExt cx="9138960" cy="6858000"/>
          </a:xfrm>
        </p:grpSpPr>
        <p:sp>
          <p:nvSpPr>
            <p:cNvPr id="62" name="未知"/>
            <p:cNvSpPr/>
            <p:nvPr/>
          </p:nvSpPr>
          <p:spPr>
            <a:xfrm>
              <a:off x="-1440" y="4897440"/>
              <a:ext cx="91389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-1440" y="20520"/>
              <a:ext cx="91389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未知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66" name="未知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未知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未知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ML/02_&#22312;HTML&#26631;&#35760;&#20013;&#30452;&#25509;&#23884;&#20837;&#26679;&#24335;.HTM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ML/03_&#22312;HTML&#30340;&#39318;&#37096;&#23450;&#20041;&#26679;&#24335;&#20449;&#24687;.HTM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ML/04_&#38142;&#25509;&#22806;&#37096;&#26679;&#24335;&#34920;&#25991;&#20214;.HTM" TargetMode="Externa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ML/&#30334;&#20998;&#27604;&#21333;&#20301;.htm" TargetMode="Externa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ML/08_&#25991;&#26412;&#23646;&#24615;.htm" TargetMode="External"/><Relationship Id="rId2" Type="http://schemas.openxmlformats.org/officeDocument/2006/relationships/hyperlink" Target="HTML/a&#26631;&#35760;css.htm" TargetMode="External"/><Relationship Id="rId3" Type="http://schemas.openxmlformats.org/officeDocument/2006/relationships/hyperlink" Target="HTML\&#26032;&#28010;&#39318;&#39029;.htm" TargetMode="External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ML/05_&#36793;&#30028;&#12289;&#36793;&#26694;&#21644;&#22635;&#20805;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ML/06_&#28014;&#21160;&#23646;&#24615;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ML/07_&#23450;&#20301;&#23646;&#24615;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ML/09_&#25991;&#26412;&#30340;&#28388;&#38236;&#25928;&#26524;.htm" TargetMode="External"/><Relationship Id="rId2" Type="http://schemas.openxmlformats.org/officeDocument/2006/relationships/hyperlink" Target="HTML/10_&#23545;&#22270;&#29255;&#24212;&#29992;&#28388;&#38236;&#25928;&#26524;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hapter 3/3_1.htm" TargetMode="External"/><Relationship Id="rId2" Type="http://schemas.openxmlformats.org/officeDocument/2006/relationships/hyperlink" Target="chapter 3/3_1.htm" TargetMode="External"/><Relationship Id="rId3" Type="http://schemas.openxmlformats.org/officeDocument/2006/relationships/hyperlink" Target="chapter 3/3_2.htm" TargetMode="External"/><Relationship Id="rId4" Type="http://schemas.openxmlformats.org/officeDocument/2006/relationships/hyperlink" Target="chapter 3/3_2.htm" TargetMode="External"/><Relationship Id="rId5" Type="http://schemas.openxmlformats.org/officeDocument/2006/relationships/hyperlink" Target="HTML/01_CSS&#29305;&#28857;1.HTM" TargetMode="External"/><Relationship Id="rId6" Type="http://schemas.openxmlformats.org/officeDocument/2006/relationships/hyperlink" Target="HTML/01_CSS&#29305;&#28857;1.HTM" TargetMode="External"/><Relationship Id="rId7" Type="http://schemas.openxmlformats.org/officeDocument/2006/relationships/hyperlink" Target="HTML/01_CSS&#29305;&#28857;2.HTM" TargetMode="External"/><Relationship Id="rId8" Type="http://schemas.openxmlformats.org/officeDocument/2006/relationships/hyperlink" Target="HTML/01_CSS&#29305;&#28857;2.HTM" TargetMode="External"/><Relationship Id="rId9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93116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标记的不足之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代码繁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格式的一致性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维护性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页现实效果缺乏动态性与交互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268280"/>
            <a:ext cx="8820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定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yellow {color : yellow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如下所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P ID=yellow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段为黄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P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H2 ID=yellow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标题为黄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H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360" y="1268280"/>
            <a:ext cx="8642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中直接插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可以直接定义样式信息，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yle =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;……”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H1 style=“font-family: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黑体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lor:red”&gt;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嵌入样式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1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2360" y="1197000"/>
            <a:ext cx="8642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档的头部插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档的头部定义样式信息，是指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/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之间，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将同类样式统一定义，然后再具体应用于网页中的元素。其定义样式的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223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2360" y="134136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网页中使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链接外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文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步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信息存储到“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CSS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中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步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HEAD&gt;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内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链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，格式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lt;LINK rel=“stylesheet”  type=“text/css”  href=“ *.CSS "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-9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080" y="1341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长度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4360" y="2924280"/>
          <a:ext cx="7705440" cy="3098520"/>
        </p:xfrm>
        <a:graphic>
          <a:graphicData uri="http://schemas.openxmlformats.org/drawingml/2006/table">
            <a:tbl>
              <a:tblPr/>
              <a:tblGrid>
                <a:gridCol w="786960"/>
                <a:gridCol w="1569960"/>
                <a:gridCol w="1244880"/>
                <a:gridCol w="4103640"/>
              </a:tblGrid>
              <a:tr h="649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英寸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in = 2.54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毫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点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pt = 1 / 72 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像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c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皮卡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pc = 12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05264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百分比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百分比值由可选的正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或负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紧跟一个数字，最后为百分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而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可以忽略不写，百分比单位中不可以有空格。百分比值是相对于其它数值来说的。例如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{line-height:200%}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表示该段文字的高度为标准行高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642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的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名称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llow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十六进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rrggbb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9966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十进制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gb(x,x,x)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间的整数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b(255,0,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百分比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格式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gb(y%,y%,y%) 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间的整数，例如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b(100%,0%,0%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字体属性用于设置网页中的字符的显示方式，如字符的大小、粗细和字体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famil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于设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素的字体列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{font-family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楷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gb2312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黑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斜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styl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设置指定元素的字形样式。其值可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普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alic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斜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liqu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偏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{font-style: oblique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varian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于在正常与小型大写字母字体间切换。其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缺省值，表示正常字体；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-cap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表示小型大写字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2{ font-variant: small-cap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weigh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设置字体的粗细。值可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缺省）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lde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e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 { font-weight: 800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2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字体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-siz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控制字体显示的大小，属性值见教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 { font-size: large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 { font-size: 12pt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 { font-size: 90%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功能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来一次性设置前面介绍的各种字体属性，属性间以空格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{font:bold italic 12pt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05120"/>
            <a:ext cx="7777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层叠样式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cading Style Shee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197000"/>
            <a:ext cx="8642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3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本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本属性用于控制文本的段落格式，例如设置首行缩进、段落对齐方式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字母间隔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tter-spacing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单词间隔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d-spacing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行高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line-he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修饰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deco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li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划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li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划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e-through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删除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ink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闪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修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缺省值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052640"/>
            <a:ext cx="864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240" indent="-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3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文本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水平对齐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al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取值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纵向对齐属性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vertical-alig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文本转换属性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xt-transform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首行缩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text-inden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新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05264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4.4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色和背景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颜色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颜色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col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图案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im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重复方式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repe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附件属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ackground-attach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位置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-positio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背景属性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052640"/>
            <a:ext cx="856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9360" indent="111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5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边框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宽度属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rder-left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widt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属性分别用于定义左、右、上、下边框的宽度，它们的取值可以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|medium|thick|leng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颜色属性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left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colo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360" indent="111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边框样式属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rder-left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right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top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-bottom-sty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属性分别定义左、右、上、下边框的样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tt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ov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ge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e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为该属性的取值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052640"/>
            <a:ext cx="85690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5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边框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58920" y="2421000"/>
            <a:ext cx="5067360" cy="3228840"/>
            <a:chOff x="1258920" y="2421000"/>
            <a:chExt cx="5067360" cy="322884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1982880" y="2421000"/>
              <a:ext cx="4343400" cy="32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58920" y="3807000"/>
              <a:ext cx="4064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边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8920" y="4599000"/>
              <a:ext cx="465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填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068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4360" y="4395960"/>
              <a:ext cx="71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4040" y="4789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2160" y="41497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边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05264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4.6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浮动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540036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05264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4.7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定位属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7416720" cy="3833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19700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5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滤镜技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举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4066920" cy="3695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447920"/>
            <a:ext cx="8915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 + 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contain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层容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Head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头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PageBody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主体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Sideba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侧边栏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MainBody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主体内容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div id="Footer"&gt;[color=#aaaaaa]&lt;!--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页面底部</a:t>
            </a:r>
            <a:r>
              <a:rPr b="1" lang="zh-CN" sz="1800" spc="-1" strike="noStrike">
                <a:solidFill>
                  <a:srgbClr val="ffff00"/>
                </a:solidFill>
                <a:latin typeface="Verdana"/>
              </a:rPr>
              <a:t>--&gt;[/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lor]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　　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技术基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844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ading Style Shee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层叠样式表）技术是一种格式化网页的标准方式，它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功能的扩展，使网页设计者能够以更有效的方式设计出更具表现力的网页效果。下面将较为详细的介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定义方法、属性及其应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1557000"/>
            <a:ext cx="656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1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3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网页中应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4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属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5   CS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滤镜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341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1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特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简化了网页格式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强了网页的可维护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强了网页的表现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强了网站格式的一致性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举例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样式表由样式规则组成，以告诉浏览器怎样去显示一个文档。样式规则的一般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以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、用户自定义类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或用户自定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的不同属性间用“；”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属性值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属性之间用“：”分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52640"/>
            <a:ext cx="8497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标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是最基本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我们可以为一个或几个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符应用样式表定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1 { font-size: large; color: red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2 { font-size: large; color: red }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{color:red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具有相同样式的不同标记，可采用组合样式定义。例如，对上面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，可定义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1,H2 {font-size: large; color: 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981000"/>
            <a:ext cx="88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类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同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指定多个样式，定义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样式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DE . html { color :  red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DE . css { color :  green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方法为 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=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CODE class=html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红色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COD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CODE class=css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色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COD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81000"/>
            <a:ext cx="759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360" y="1197000"/>
            <a:ext cx="882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式定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样式符为用户自定义类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不同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记定义同一样式，定义格式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类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属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 :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属性值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例如：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note1 {color : red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note2 {color : green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引用如下所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P class=note1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行文字为红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P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76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H2 class=note1&gt;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标题为红色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/H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6:43:14Z</dcterms:created>
  <dc:creator>zyl</dc:creator>
  <dc:description/>
  <dc:language>en-US</dc:language>
  <cp:lastModifiedBy>guo</cp:lastModifiedBy>
  <dcterms:modified xsi:type="dcterms:W3CDTF">2008-04-09T22:55:36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8</vt:r8>
  </property>
</Properties>
</file>