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F93-DFE4-4B6C-A17E-753450CC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030-DC59-4360-9C03-6AF42CE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A09-7D75-405A-840C-1B84242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235-4AD1-40C0-AF28-DFBF61F0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56C-1545-4BC3-B1E6-9EF27A3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BC5-70F1-4803-9332-F9E2ABB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157-151A-4484-8479-EC52956A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ACD-5672-45DF-8987-E134B2F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DA1-7B5A-4612-8B52-84F6F7FF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37B-0AFA-4A88-A885-2015D82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DC2-D117-4D0E-946A-B2C3B50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A84-B93D-4AD2-94FD-0A981FA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8200" y="7826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4982-A08A-4ECC-A3E4-109F1B4D34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009000" cy="1052640"/>
            <a:chOff x="0" y="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08000"/>
              <a:ext cx="711360" cy="474480"/>
              <a:chOff x="290520" y="10800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080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08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530280"/>
              <a:ext cx="737640" cy="474480"/>
              <a:chOff x="414360" y="53028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5302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530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457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821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hyperlink" Target="Examples/form5.htm" TargetMode="External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Examples/&#29992;&#25143;&#36523;&#20221;&#21028;&#21035;.htm" TargetMode="External"/><Relationship Id="rId2" Type="http://schemas.openxmlformats.org/officeDocument/2006/relationships/hyperlink" Target="Examples/&#22312;&#32447;&#27979;&#35797;.htm" TargetMode="External"/><Relationship Id="rId3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Examples/form7.htm" TargetMode="External"/><Relationship Id="rId2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11_&#25968;&#25454;&#31867;&#22411;&#33258;&#21160;&#36716;&#25442;.htm" TargetMode="External"/><Relationship Id="rId3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Examples/form8.htm" TargetMode="External"/><Relationship Id="rId7" Type="http://schemas.openxmlformats.org/officeDocument/2006/relationships/hyperlink" Target="Examples/form8.htm" TargetMode="External"/><Relationship Id="rId8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/12_&#25968;&#25454;&#31867;&#22411;&#36716;&#25442;&#20989;&#25968;.htm" TargetMode="External"/><Relationship Id="rId5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Examples/13_&#27604;&#36739;&#36816;&#31639;&#31526;.htm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Examples/14_&#31639;&#26415;&#36816;&#31639;&#31526;.ht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Examples/15_&#26465;&#20214;&#36816;&#31639;&#31526;.htm" TargetMode="External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Examples/16_delete&#36816;&#31639;&#31526;.htm" TargetMode="External"/><Relationship Id="rId2" Type="http://schemas.openxmlformats.org/officeDocument/2006/relationships/hyperlink" Target="Examples/17_typeof&#36816;&#31639;&#31526;.htm" TargetMode="External"/><Relationship Id="rId3" Type="http://schemas.openxmlformats.org/officeDocument/2006/relationships/hyperlink" Target="Examples/18_this&#36816;&#31639;&#31526;.htm" TargetMode="External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Examples/19_if&#35821;&#21477;.htm" TargetMode="External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Examples\for_in.htm" TargetMode="External"/><Relationship Id="rId2" Type="http://schemas.openxmlformats.org/officeDocument/2006/relationships/hyperlink" Target="Examples\110_FOR IN&#35821;&#21477;.HTM" TargetMode="External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\&#21028;&#26029;&#32032;&#25968;.htm" TargetMode="External"/><Relationship Id="rId5" Type="http://schemas.openxmlformats.org/officeDocument/2006/relationships/hyperlink" Target="Examples\&#21028;&#26029;&#28070;&#24180;.htm" TargetMode="External"/><Relationship Id="rId6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20107;&#20214;&#22788;&#29702;1.htm" TargetMode="External"/><Relationship Id="rId3" Type="http://schemas.openxmlformats.org/officeDocument/2006/relationships/hyperlink" Target="Examples/&#20107;&#20214;&#22788;&#29702;2.htm" TargetMode="External"/><Relationship Id="rId4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3.htm" TargetMode="External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Examples/&#20107;&#20214;&#22788;&#29702;4.htm" TargetMode="External"/><Relationship Id="rId2" Type="http://schemas.openxmlformats.org/officeDocument/2006/relationships/hyperlink" Target="Examples/&#20107;&#20214;&#22788;&#29702;4.htm" TargetMode="External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Examples/21_&#25968;&#32452;&#23545;&#35937;.HTM" TargetMode="External"/><Relationship Id="rId2" Type="http://schemas.openxmlformats.org/officeDocument/2006/relationships/hyperlink" Target="Examples/21_&#25968;&#32452;&#23545;&#35937;.HTM" TargetMode="External"/><Relationship Id="rId3" Type="http://schemas.openxmlformats.org/officeDocument/2006/relationships/hyperlink" Target="Examples/21_&#25968;&#32452;&#23545;&#35937;.HTM" TargetMode="External"/><Relationship Id="rId4" Type="http://schemas.openxmlformats.org/officeDocument/2006/relationships/hyperlink" Target="Examples/22_&#20108;&#32500;&#25968;&#32452;.HTM" TargetMode="External"/><Relationship Id="rId5" Type="http://schemas.openxmlformats.org/officeDocument/2006/relationships/hyperlink" Target="Examples/22_&#20108;&#32500;&#25968;&#32452;.HTM" TargetMode="External"/><Relationship Id="rId6" Type="http://schemas.openxmlformats.org/officeDocument/2006/relationships/hyperlink" Target="Examples/22_&#20108;&#32500;&#25968;&#32452;.HTM" TargetMode="External"/><Relationship Id="rId7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256,-1,NEXT" TargetMode="External"/><Relationship Id="rId2" Type="http://schemas.openxmlformats.org/officeDocument/2006/relationships/hyperlink" Target="Examples/String.length&#27979;&#35797;.htm" TargetMode="External"/><Relationship Id="rId3" Type="http://schemas.openxmlformats.org/officeDocument/2006/relationships/hyperlink" Target="Examples/String.length&#27979;&#35797;.htm" TargetMode="External"/><Relationship Id="rId4" Type="http://schemas.openxmlformats.org/officeDocument/2006/relationships/hyperlink" Target="Examples/String.length&#27979;&#35797;.htm" TargetMode="External"/><Relationship Id="rId5" Type="http://schemas.openxmlformats.org/officeDocument/2006/relationships/hyperlink" Target="Examples/String.length&#27979;&#35797;.htm" TargetMode="External"/><Relationship Id="rId6" Type="http://schemas.openxmlformats.org/officeDocument/2006/relationships/hyperlink" Target="Examples/23_&#23383;&#31526;&#20018;&#23545;&#35937;.htm" TargetMode="External"/><Relationship Id="rId7" Type="http://schemas.openxmlformats.org/officeDocument/2006/relationships/hyperlink" Target="Examples/23_&#23383;&#31526;&#20018;&#23545;&#35937;.htm" TargetMode="External"/><Relationship Id="rId8" Type="http://schemas.openxmlformats.org/officeDocument/2006/relationships/hyperlink" Target="Examples/&#22823;&#23567;&#20889;&#36716;&#25442;.htm" TargetMode="External"/><Relationship Id="rId9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256,-1,PREV" TargetMode="External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\&#40736;&#26631;&#29305;&#25928;.htm" TargetMode="External"/><Relationship Id="rId6" Type="http://schemas.openxmlformats.org/officeDocument/2006/relationships/hyperlink" Target="Examples\form10.HTM" TargetMode="External"/><Relationship Id="rId7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Examples/Date&#23545;&#35937;&#26041;&#27861;&#27979;&#35797;.htm" TargetMode="External"/><Relationship Id="rId2" Type="http://schemas.openxmlformats.org/officeDocument/2006/relationships/hyperlink" Target="Examples/24_&#26085;&#26399;&#23545;&#35937;1.htm" TargetMode="External"/><Relationship Id="rId3" Type="http://schemas.openxmlformats.org/officeDocument/2006/relationships/hyperlink" Target="Examples/24_&#26085;&#26399;&#23545;&#35937;2.htm" TargetMode="External"/><Relationship Id="rId4" Type="http://schemas.openxmlformats.org/officeDocument/2006/relationships/hyperlink" Target="Examples/&#20498;&#35745;&#26102;.htm" TargetMode="External"/><Relationship Id="rId5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Examples/25_&#29992;&#25143;&#33258;&#23450;&#20041;&#23545;&#35937;.htm" TargetMode="External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Examples/26_&#20316;&#19994;1.htm" TargetMode="External"/><Relationship Id="rId2" Type="http://schemas.openxmlformats.org/officeDocument/2006/relationships/hyperlink" Target="Examples/26_&#20316;&#19994;2.htm" TargetMode="External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1.HTM" TargetMode="External"/><Relationship Id="rId3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Examples/&#39029;&#38754;&#19979;&#33853;&#25928;&#26524;.htm" TargetMode="External"/><Relationship Id="rId2" Type="http://schemas.openxmlformats.org/officeDocument/2006/relationships/hyperlink" Target="Examples/WINDOW2.htm" TargetMode="External"/><Relationship Id="rId3" Type="http://schemas.openxmlformats.org/officeDocument/2006/relationships/hyperlink" Target="Examples/WINDOW3.htm" TargetMode="External"/><Relationship Id="rId4" Type="http://schemas.openxmlformats.org/officeDocument/2006/relationships/hyperlink" Target="Examples/WINDOW3.htm" TargetMode="External"/><Relationship Id="rId5" Type="http://schemas.openxmlformats.org/officeDocument/2006/relationships/hyperlink" Target="Examples/WINDOW4.htm" TargetMode="External"/><Relationship Id="rId6" Type="http://schemas.openxmlformats.org/officeDocument/2006/relationships/hyperlink" Target="Examples/WINDOW4.htm" TargetMode="External"/><Relationship Id="rId7" Type="http://schemas.openxmlformats.org/officeDocument/2006/relationships/hyperlink" Target="Examples/WINDOW5.htm" TargetMode="External"/><Relationship Id="rId8" Type="http://schemas.openxmlformats.org/officeDocument/2006/relationships/hyperlink" Target="Examples/WINDOW5.htm" TargetMode="External"/><Relationship Id="rId9" Type="http://schemas.openxmlformats.org/officeDocument/2006/relationships/hyperlink" Target="Examples/WINDOW6.htm" TargetMode="External"/><Relationship Id="rId10" Type="http://schemas.openxmlformats.org/officeDocument/2006/relationships/hyperlink" Target="Examples/WINDOW6.htm" TargetMode="External"/><Relationship Id="rId1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Examples/history1.htm" TargetMode="External"/><Relationship Id="rId5" Type="http://schemas.openxmlformats.org/officeDocument/2006/relationships/hyperlink" Target="Examples/history1.htm" TargetMode="External"/><Relationship Id="rId6" Type="http://schemas.openxmlformats.org/officeDocument/2006/relationships/hyperlink" Target="325,68,&#24187;&#28783;&#29255; 68" TargetMode="External"/><Relationship Id="rId7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256,-1,PREV" TargetMode="External"/><Relationship Id="rId2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Examples/&#35821;&#27861;2.htm" TargetMode="External"/><Relationship Id="rId3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LOCATION2.HTM" TargetMode="External"/><Relationship Id="rId4" Type="http://schemas.openxmlformats.org/officeDocument/2006/relationships/hyperlink" Target="Examples/LOCATION2.HTM" TargetMode="External"/><Relationship Id="rId5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Examples/index.HTM" TargetMode="External"/><Relationship Id="rId2" Type="http://schemas.openxmlformats.org/officeDocument/2006/relationships/hyperlink" Target="Examples/index.HTM" TargetMode="External"/><Relationship Id="rId3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Examples/DOCUMENT1.HTM" TargetMode="External"/><Relationship Id="rId4" Type="http://schemas.openxmlformats.org/officeDocument/2006/relationships/hyperlink" Target="Examples/DOCUMENT1.HTM" TargetMode="External"/><Relationship Id="rId5" Type="http://schemas.openxmlformats.org/officeDocument/2006/relationships/hyperlink" Target="Examples/DOCUMENT2.HTM" TargetMode="External"/><Relationship Id="rId6" Type="http://schemas.openxmlformats.org/officeDocument/2006/relationships/hyperlink" Target="Examples/DOCUMENT2.HTM" TargetMode="External"/><Relationship Id="rId7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Examples/LINKS.HTM" TargetMode="External"/><Relationship Id="rId6" Type="http://schemas.openxmlformats.org/officeDocument/2006/relationships/hyperlink" Target="Examples/LINKS.HTM" TargetMode="External"/><Relationship Id="rId7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Examples/form1.HTM" TargetMode="External"/><Relationship Id="rId2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Examples/form2.htm" TargetMode="External"/><Relationship Id="rId2" Type="http://schemas.openxmlformats.org/officeDocument/2006/relationships/hyperlink" Target="Examples/form2.htm" TargetMode="External"/><Relationship Id="rId3" Type="http://schemas.openxmlformats.org/officeDocument/2006/relationships/hyperlink" Target="Examples/form3.htm" TargetMode="External"/><Relationship Id="rId4" Type="http://schemas.openxmlformats.org/officeDocument/2006/relationships/hyperlink" Target="Examples/form4.htm" TargetMode="External"/><Relationship Id="rId5" Type="http://schemas.openxmlformats.org/officeDocument/2006/relationships/hyperlink" Target="Examples/form4.htm" TargetMode="External"/><Relationship Id="rId6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章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编程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事件驱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内置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浏览器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628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mber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包含整数或浮点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逻辑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Logica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取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单引号或双引号括起来的零个或多个单一的字符所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空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null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没有值，取唯一值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ll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大小写敏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未定义值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undefined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示尚未定义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注：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不能写成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或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null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既不等于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，也不等于“空字符串”。因为“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0”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是数值，“空字符串”是字符串。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187280" y="907920"/>
            <a:ext cx="77058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Tahoma"/>
              </a:rPr>
              <a:t>例：多行文本对象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多行文本对象示例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unction isTooLong(elm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f (elm.length &gt; 50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ert(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留言内容太长，请修改后再发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=open("","","300,300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swin.document.write(elm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FORM onSubmit="return isTooLong(this.msg.value)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TEXTAREA NAME="msg" COLS="30" ROWS="5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nFocus="this.value=''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欢迎留言，不过请长话短说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....&lt;/textarea&gt;&lt;B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INPUT TYPE="submit" VALUE="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留言完毕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单选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置该对象的选取状态，为一个布尔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在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50920" y="907920"/>
            <a:ext cx="8893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：判断用户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：在线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选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复选框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复选框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设置该对象的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Checke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该对象的默认选取状态，为一个布尔变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unction count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checkCount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r num = document.form1.elements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(var i=0; i&lt;num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f (document.form1.elements[i].chec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eck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lert (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你喜欢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+ checkCount + 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种颜色。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FORM NAME=form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请选择你喜欢的颜色：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red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红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green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绿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checkbox" NAME="blue"&gt;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蓝色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INPUT TYPE="button" VALUE="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请单击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 onClick=count(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FOR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复选框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自动建立一个下拉列表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选择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700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自动数据类型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表达式中用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运算符，且其中一个操作数为字符串，另一个操作数为数值时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将数值转成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我今年”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18;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“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我今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x=”15”+8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x=1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var y=15+8;  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y=2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表达式中用了其它运算符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将字符串转成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x=”30”/5;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ar y=”15”-“8”;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列表中选项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Option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数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options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应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法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OPTION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Index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所选择项目的索引值（选到第一项，返回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下拉列表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建立选项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Option(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 , defaultSelected [ , selected ] ] ] 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中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“文字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代表显示在列表中的文字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值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也就是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指定默认选中该选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ed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指定选中该选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aultSelected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定该选项为默认选择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有选项所构成的数组索引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   Select.option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数组的元素个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项的数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ed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判断该选项是否被选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选项所显示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中后，传到服务器上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3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选项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50920" y="90792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逐行检查是否填如数据，如未填写，应提示用户填写，如下图所示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763640" y="1989000"/>
            <a:ext cx="5974920" cy="4248360"/>
            <a:chOff x="1763640" y="1989000"/>
            <a:chExt cx="5974920" cy="424836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763640" y="1989000"/>
              <a:ext cx="4850280" cy="418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5100480" y="4430160"/>
              <a:ext cx="2638080" cy="180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50920" y="9079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果输入的密码不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数字，请提示用户，如下图所示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87280" y="1844640"/>
            <a:ext cx="6913800" cy="4032360"/>
            <a:chOff x="1187280" y="1844640"/>
            <a:chExt cx="6913800" cy="4032360"/>
          </a:xfrm>
        </p:grpSpPr>
        <p:pic>
          <p:nvPicPr>
            <p:cNvPr id="504" name="" descr=""/>
            <p:cNvPicPr/>
            <p:nvPr/>
          </p:nvPicPr>
          <p:blipFill>
            <a:blip r:embed="rId1"/>
            <a:stretch/>
          </p:blipFill>
          <p:spPr>
            <a:xfrm>
              <a:off x="1187280" y="1844640"/>
              <a:ext cx="6294960" cy="39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4676760" y="3909600"/>
              <a:ext cx="3424320" cy="196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是一个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函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库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框架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极大地简化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编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Quer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很容易学习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24000" y="126828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元素选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元素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事件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特效和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DO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遍历和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J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00" y="1268280"/>
            <a:ext cx="864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一、取得页面中的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如果不使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库，遍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OM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树，以及查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文档结构中某个特殊的部分，必需编写很多代码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为准确获取需要操纵的文档元素，提供了可靠而富有效率的选择符机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二、修改页面的外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虽然为呈现方式提供了一种强大的手段，但当所有浏览器不完全支持相同的标准时，单纯使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SS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就会显得力不从心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可以弥补这一不足，它提供了跨浏览器的标准来解决方案。而且即使在页面已经呈现之后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仍然能够改变文档中某个部分的类或都个别的样式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三、改变页面的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能够影响的范围并不局限于简单的外观变化，使用少量的代码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就能改变文档的内容，可以改变文本、插入或都翻转图像、对列表重新排序，甚至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文档的整个结构都能重写和扩充——所有这些只需要一个简单易用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PI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四、响应用户的页面操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即使是最强大和最精心的设计的行为，如果我们无法控制它何时发生，那它也毫无用处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提供了截取形形色色的页面事件（比如用户单击一个链接）的适当方式，而不需要使用事件处理程序搞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代码。此外，它的事件处理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P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也消除了经常困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开发人员的浏览器不一致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五、为页面添加动态效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为了实现某种交互式行为，设计者也必须向用户提供视觉上的反馈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中内置的一批淡入、擦除之类的效果，以及制作新效果的工具包，为此提供了便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六、无需刷新页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即可从服务器获取信息，这种编程模式就是从所周知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JA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syynchoronous JavaScript and X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），它能辅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开发人员创建出反应灵敏、功能丰富的网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通过消除这一过程中的浏览器特定的复杂性，使开发人员得以专注于服务器端的功能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据类型转换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val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参数内容，转换成相应的数值，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eval(“15”)+8;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结果：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，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底数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，转换成指定底数的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传入的字符串，转换成浮点数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类型转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197000"/>
            <a:ext cx="86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七、简化常见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任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除了这些完全针对文档的特性之外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Query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也提供了对基本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JavaScrip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宋体"/>
              </a:rPr>
              <a:t>结构（例如迭代和数组操作等）的增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Query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库包含以下特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src="jquery.js"&gt;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j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添加到网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rc="http://ajax.googleapis.com/ajax/libs/jquery/1.8.0/jquery.min.j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jQuery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添加到网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585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命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字母或下划线开头（不能以数字开头），后面接数字或其它字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宋体"/>
              </a:rPr>
              <a:t>变量名区分大小写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Uppercase  A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a="Lowercase  a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8920" indent="35712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的声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声明时，不必定义类型，所有类型均由小写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;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,sex;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自动给出一个未定义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name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张永”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=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女生”；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变量均为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变量的作用域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全局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Glob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局部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cal variabl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crip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title = "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变量的作用域实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gv = "JavaScript";       //g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全局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tes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函数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tes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 lv = "VBScript";      //l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局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+ "&lt;br&gt;");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docume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输出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gv=" + g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.write("lv=" + lv + "&lt;br&gt;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628640"/>
            <a:ext cx="8534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字符串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一般字符串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特殊字符的字符串常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布尔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ean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整数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s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浮点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ing-Point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组常量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 Literals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2924280"/>
          <a:ext cx="6985080" cy="1976400"/>
        </p:xfrm>
        <a:graphic>
          <a:graphicData uri="http://schemas.openxmlformats.org/drawingml/2006/table">
            <a:tbl>
              <a:tblPr/>
              <a:tblGrid>
                <a:gridCol w="857160"/>
                <a:gridCol w="2976480"/>
                <a:gridCol w="89388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后退一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ckspa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制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a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换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orm fe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换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ew l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双引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arriage retu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\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斜线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ackslas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赋值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276640"/>
          <a:ext cx="8496000" cy="2070000"/>
        </p:xfrm>
        <a:graphic>
          <a:graphicData uri="http://schemas.openxmlformats.org/drawingml/2006/table">
            <a:tbl>
              <a:tblPr/>
              <a:tblGrid>
                <a:gridCol w="2128320"/>
                <a:gridCol w="1724040"/>
                <a:gridCol w="2049480"/>
                <a:gridCol w="259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/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+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余赋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-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比较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2205000"/>
          <a:ext cx="8424720" cy="2766960"/>
        </p:xfrm>
        <a:graphic>
          <a:graphicData uri="http://schemas.openxmlformats.org/drawingml/2006/table">
            <a:tbl>
              <a:tblPr/>
              <a:tblGrid>
                <a:gridCol w="1244520"/>
                <a:gridCol w="4197600"/>
                <a:gridCol w="2982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操作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描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=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两个操作数相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Psw =pass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!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两个操作数不等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mobile.length!=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g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或者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ries&gt;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g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mflag&gt;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lt;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i&lt;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&lt;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如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巧或等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返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ries&l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557360"/>
            <a:ext cx="853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算术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2205000"/>
          <a:ext cx="8496000" cy="2495520"/>
        </p:xfrm>
        <a:graphic>
          <a:graphicData uri="http://schemas.openxmlformats.org/drawingml/2006/table">
            <a:tbl>
              <a:tblPr/>
              <a:tblGrid>
                <a:gridCol w="1007640"/>
                <a:gridCol w="1636920"/>
                <a:gridCol w="955440"/>
                <a:gridCol w="1498680"/>
                <a:gridCol w="1093680"/>
                <a:gridCol w="2303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ddi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ivi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递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e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ubtrac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余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odul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负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nary Neg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ultiplic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递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cr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2360" y="1558800"/>
            <a:ext cx="864072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一种解释型的，基于对象的脚本语言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an interpreted, object-based scripting language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CS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等技术综合在一起，可以设计出能够与用户交互并包含动态内容的页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可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文件中，随网页一起传送到客户端浏览器，然后通过浏览器来解释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逻辑运算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&amp;&amp;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与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AND)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都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a||b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或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OR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,b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任一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!a 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逻辑非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ogical NOT) 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若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，则结果为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字符串运算符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String operator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条件运算符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条件表达式？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值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i="1" lang="zh-CN" sz="2800" spc="-1" strike="noStrike">
                <a:solidFill>
                  <a:srgbClr val="ff0000"/>
                </a:solidFill>
                <a:latin typeface="Tahoma"/>
              </a:rPr>
              <a:t>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如果条件表达式的结果是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否则就返回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g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定义对象实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法：对象名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类型（参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Array=new Array(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运算符与表达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557360"/>
            <a:ext cx="85341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elet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删除对象、属性、数组、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属性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组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     delete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注：删除成功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，删除失败返回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las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ypeof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用来判断操作数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操作数      或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of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操作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j)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thi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表当前对象，因此用在不同的地方，就有不同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14520" y="2205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4520" y="4437000"/>
            <a:ext cx="21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2205360"/>
            <a:ext cx="288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 if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2133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213372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4221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580536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55736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选择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71520" y="2489760"/>
            <a:ext cx="527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结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 (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变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特定数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280" y="2133360"/>
            <a:ext cx="30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960" y="3285000"/>
            <a:ext cx="6069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hile ( i &gt; 0 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213480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while (&l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逻辑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ar i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i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 whil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( i &gt; 0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133720"/>
            <a:ext cx="6335640" cy="8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( 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初始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4600" y="3285000"/>
            <a:ext cx="616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or ( var i = 5; i &gt; 0; i--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("i = " ,i ,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205000"/>
            <a:ext cx="5688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变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句或语句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6640" y="3428280"/>
            <a:ext cx="764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document.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685800"/>
                <a:tab algn="l" pos="80028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什么是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脚本语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脚本语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Scripting Language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由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ASCII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码构成，可直接用任何的文本编辑器开发完成。是一种不必事先编译，只要利用适当的解释器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Interpreter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就可以执行的简单的解释式程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(2) 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是由网景公司开发的一种基于对象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(object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和事件驱动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(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Event Driven)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的客户端脚本语言。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JavaScript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代码可直接嵌入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  <a:ea typeface="宋体"/>
              </a:rPr>
              <a:t>HTML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  <a:ea typeface="宋体"/>
              </a:rPr>
              <a:t>文件中，随网页一起传送到客户端浏览器，然后通过浏览器来解释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148428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循环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206028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(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{ &l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语句或语句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gt; 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8720" y="306864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ith (docum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限时抢购物品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ViewSonic 17\"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显示器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rite ("&lt;Li&gt;EPSON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打印机。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"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90792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程序控制流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557360"/>
            <a:ext cx="8534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注释语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2276640"/>
            <a:ext cx="623880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行注释语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1828800"/>
            <a:ext cx="683568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包含两类函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系统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用户自定义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99072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. JavaScrip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2536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编码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字符串中非文字、数字字符（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amp;,%,#,^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空格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转成相对应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译码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ap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相反，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CII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转回一般数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escape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3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求值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通常有两个用途，一个用作字符串的运算，另一个用来指出操作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l 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表达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112536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4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数值判断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判断变量的值是否为数值，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N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表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Number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若返回值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则表示自变量不是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语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NaN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测试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x = 15, y = "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黄雅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x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&lt;LI&gt;y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,isNaN(y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执行结果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x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y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不是数值吗？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105264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转成整数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各种进制的数值转成十进制整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In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底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二进位转成十进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1101&lt;sub&gt;2&lt;/sub&gt; = 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1101", 2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十六进位转成十进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"BFFF&lt;sub&gt;16&lt;/sub&gt; = 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parseInt("BFFF", 16),"&lt;sub&gt;10&lt;/sub&gt;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105264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6)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转成浮点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字符串转成浮点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seFloat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Int("3.123456"), 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write(parseFloat("3.123456"), "&lt;br&gt;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95280" y="1628640"/>
            <a:ext cx="8247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90792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7)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用户自定义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752480"/>
            <a:ext cx="734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名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内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return &lt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返回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086720"/>
            <a:ext cx="7707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定义函数的注意事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易于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功能模块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放置在程序开始部分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例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编程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鼠标或键盘的动作称为事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驱动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Driv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由事件引发的一连串程序的动作，称为事件驱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处理程序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vent Handler)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事件进行处理的程序或函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事件处理程序语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105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常见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50920" y="1557360"/>
          <a:ext cx="8569080" cy="4746600"/>
        </p:xfrm>
        <a:graphic>
          <a:graphicData uri="http://schemas.openxmlformats.org/drawingml/2006/table">
            <a:tbl>
              <a:tblPr/>
              <a:tblGrid>
                <a:gridCol w="1180800"/>
                <a:gridCol w="2995560"/>
                <a:gridCol w="1438200"/>
                <a:gridCol w="2954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事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止正在加载的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关闭当前网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use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获取焦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use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移动鼠标指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对象的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鼠标指针离开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对象上单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鼠标指针悬停于某对象之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blC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对象上双击鼠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ouse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放开鼠标左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gD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拖拽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被移动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载文件或图形时发生错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窗口大小被改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键盘上的任意键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某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P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下键盘上的任意键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bm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mi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ey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某键被按下后弹起来的瞬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击表单上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o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浏览器读入文件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916280"/>
            <a:ext cx="7345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简单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动态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跨平台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052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JavaScript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事件处理程序语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事件处理程序直接嵌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 = “alert(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是事件处理程序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”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您好！欢迎您学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直接写在对象后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.onLoad = 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这是事件处理程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浏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应用举例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NT STYLE="cursor:han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location='http://www.hubert.idv.tw/'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ver="status=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最棒的在线学习网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red';return tru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MouseOut="status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.color='blue'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网络技术学习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FO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的事件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应用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FORM name=fff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请输入基本资料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姓名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text" NAME="usr" SIZE="8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INPUT TYPE="button" VALUE="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请单击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lick="alert(fff.usr.value+' 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谢谢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浏览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了一些非常有用的常用内部对象和方法。用户不需要用脚本来实现这些功能。这正是基于对象编程的真正目的。本节主要介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数组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字符串）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数值计算）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日期）内置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或 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Array(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[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…]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2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个元素的数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uit=new Array(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苹果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”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橘子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声明了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个  数组元素的数组，并赋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数组元素的索引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数组长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数组元素个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将数组内的所有值组合成一个字符串，并用特定符号分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String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以字符串来表示数组和数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将数组内元素的索引次序翻转过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1052640"/>
            <a:ext cx="7848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Array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1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：一维数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2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：二维数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变量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“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字符串常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 str1=”JavaScript”  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定义字符串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字符串长度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包括字符串显示和运算两类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属性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ength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测试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indexOf(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函数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大、小写转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98100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String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对象的常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24000" y="1413000"/>
          <a:ext cx="8569080" cy="460692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0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r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书签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 name=…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 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.anch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超链接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A href=…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，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格式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ng.link(UR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g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c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tsize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tco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创建字符显示格式，相当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BIG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B&gt;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owerCas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Upper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符串大小写转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exO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指定子字符串在字符串中第一次出现的左、右索引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tring(start,e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开始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子字符（不包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置的字符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某字符串中指定的子字符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7451640" y="6093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欧拉常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自然对数的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7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6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N10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自然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3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2E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10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对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41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1_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.7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RT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平方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约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41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98100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学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Math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绝对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os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余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正弦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a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的反正切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弧度为单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大于或等于指定数的最小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oor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ei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两数间的较大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两数问的较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w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次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指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ndom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之间的一个伪随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nd()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某数四舍五入之后的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916280"/>
            <a:ext cx="7850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制作网页特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实现表单数据前端校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窗口动态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鼠标特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数据校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. 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名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new Date ( [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期参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) //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当日时间为对象初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October 1,2002 12:00:00”)  //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英文表示月份，其余以数值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= new Date (“200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8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7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)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一律以数字表示，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Year(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年份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月份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并返回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Day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星期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小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分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返回完整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Dat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的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Hour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小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inute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分钟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Month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Seconds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秒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ime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完整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Year()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改变年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日期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ate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月份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1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日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---3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星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-6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时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2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钟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数为  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5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毫秒数为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---999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例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象常用方法测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例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显示当天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例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显示用户的进站时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例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：倒计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052640"/>
            <a:ext cx="8424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用户自定义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实际应用应用中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的内置对象往往不能满足用户的需求，因此，常常需要建立用户自定义对象。对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是一组经过组织的数据，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中的每一个对象都有两个相关的成员，即属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operty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和方法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ethod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建立自定义对象就是为对象定义属性和方法，其步骤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写一个构造函数来定义对象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为对象类定义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为对象类定义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先将方法的名称放到对象的构造函数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写一个函数来描述该对象方法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利用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ew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创建对象实例（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Object Instance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举例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内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1052640"/>
            <a:ext cx="83534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作业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利用日期对象，对不同的进站时间，显示不同的提示信息。比如，上午六点到下午六点，显示“将有限的时间用在作最有意义的事”；其他时间显示“现在是休息时间”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检测用户输入的邮件格式是否正确。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（答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用户进入时，显示“欢迎您进入本网站！”；离开时，显示“谢谢您，欢迎下次再来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Body o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欢迎您进入本网站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UnLoad="alert('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谢谢您，欢迎下次再来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')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1600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浏览器对象及其层次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2909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30560" y="1703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28760" y="244476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28760" y="321480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1320" y="404640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62480" y="479916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65720" y="42861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62480" y="38019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65720" y="32878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65720" y="27892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62480" y="23194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65720" y="185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1320" y="1397160"/>
            <a:ext cx="109080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34120" y="45277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35560" y="40132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4120" y="3529080"/>
            <a:ext cx="10904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35560" y="301608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35560" y="251604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4120" y="2060640"/>
            <a:ext cx="1362240" cy="3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Up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35560" y="1582560"/>
            <a:ext cx="10908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21520" y="1125360"/>
            <a:ext cx="109044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34120" y="597852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35560" y="5465880"/>
            <a:ext cx="10908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34120" y="498168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79560" y="1854360"/>
            <a:ext cx="0" cy="23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9520" y="30639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79560" y="187020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9560" y="25956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79560" y="33670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79560" y="419724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0120" y="1536840"/>
            <a:ext cx="0" cy="34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40120" y="499896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21040" y="44244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5960" y="392580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55960" y="3427560"/>
            <a:ext cx="50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291312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0120" y="247500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40120" y="1990800"/>
            <a:ext cx="5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5960" y="1522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321000" y="261000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88160" y="1279440"/>
            <a:ext cx="0" cy="491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88160" y="12794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907240" y="174780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88160" y="221760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07240" y="2700360"/>
            <a:ext cx="32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72320" y="317016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88160" y="36990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88160" y="41972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72320" y="469728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88160" y="514980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88160" y="56196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72320" y="61642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95760" y="2943360"/>
            <a:ext cx="3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02640" y="5994360"/>
            <a:ext cx="1090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6148440"/>
            <a:ext cx="4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4000" y="907920"/>
            <a:ext cx="842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顶层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来表示浏览器所打开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指定窗口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窗口名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打开当前窗口的窗口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pener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中的顶级窗口：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op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前活动窗口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f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例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in1.document.titl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广告窗口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elf.close()           opener.document.forms[0].user.value=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张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am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的名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判断窗口是否已经被关闭，返回布尔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含当前文档的信息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ram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的框架对象数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以数组索引值表示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histor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当前窗口最近浏览过的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所显示文档的完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L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的框架个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当前窗口的脚本所在的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l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当前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代表当前框架的最顶层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直接写入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BODY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P 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onmouseover="alert('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')"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gt;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鼠标移过来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50920" y="981000"/>
            <a:ext cx="8569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efaultStat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缺省的状态栏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atu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状态栏中的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crollbar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滚动条（包括水平和垂直滚动条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ool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工具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enuba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菜单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ocationba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浏览器的地址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容区的高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inn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内容区的宽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Heigh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边界的高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uterWid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窗口边界的宽度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XOffse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ageYOffse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网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-positio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位置（以像素表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0920" y="981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pen(URL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窗口名称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窗口规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]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新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ose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关闭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MoveTo(x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y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将窗口移动至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坐标处，参数取绝对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By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水平点数，垂直点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调整窗口大小（往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往下），参数取相对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ResizeTo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宽度，高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等待一段指定的毫秒数时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然后运行指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Timeou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m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定义的计时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et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表达式，毫秒数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设置一个定时程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learInterval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定时器对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清除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Interv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定义的计时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cus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将焦点移到此窗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lur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把焦点从指定窗口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e()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进入客户端在浏览器上设置的主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stop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停止加载网页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back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历史记录的上一个网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orward(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加载历史记录的下一个网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lert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传送警告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nfirm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字符串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firm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消息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户可以选择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如果用户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K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方法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单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返回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prompt(“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提示字符串”，默认值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打开一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话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户可向该框键入文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并把键入的文本返回到脚本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42920" y="981000"/>
            <a:ext cx="6626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B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Drag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U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onRe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改变窗口的大小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打开窗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Promp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方法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setInterva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setTimeout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WINDOW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对象综合实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窗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WIND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单击“来者何人”，打开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200*10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打开网页时，自动打开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300*100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窗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6386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它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一个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来存储客户端最近访问过的网页清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story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存储在记录清单中的网页数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urren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前网页的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x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下一个历史记录的网页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iou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上一个历史记录的网页地址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50920" y="98100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ack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回到客户端查看过的上一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war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回到客户端查看过的下一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整数或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前往历史记录中的某个网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：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istory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对象实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96360" y="60213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历史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HISTO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11280" y="1484280"/>
            <a:ext cx="1224000" cy="2232000"/>
            <a:chOff x="611280" y="1484280"/>
            <a:chExt cx="1224000" cy="2232000"/>
          </a:xfrm>
        </p:grpSpPr>
        <p:sp>
          <p:nvSpPr>
            <p:cNvPr id="366" name=""/>
            <p:cNvSpPr/>
            <p:nvPr/>
          </p:nvSpPr>
          <p:spPr>
            <a:xfrm>
              <a:off x="611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728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79640" y="1484280"/>
            <a:ext cx="1224000" cy="2232000"/>
            <a:chOff x="1979640" y="1484280"/>
            <a:chExt cx="1224000" cy="2232000"/>
          </a:xfrm>
        </p:grpSpPr>
        <p:sp>
          <p:nvSpPr>
            <p:cNvPr id="369" name=""/>
            <p:cNvSpPr/>
            <p:nvPr/>
          </p:nvSpPr>
          <p:spPr>
            <a:xfrm>
              <a:off x="1979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2400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348000" y="1484280"/>
            <a:ext cx="1224000" cy="2232000"/>
            <a:chOff x="3348000" y="1484280"/>
            <a:chExt cx="1224000" cy="2232000"/>
          </a:xfrm>
        </p:grpSpPr>
        <p:sp>
          <p:nvSpPr>
            <p:cNvPr id="372" name=""/>
            <p:cNvSpPr/>
            <p:nvPr/>
          </p:nvSpPr>
          <p:spPr>
            <a:xfrm>
              <a:off x="334800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9236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14920" y="1484280"/>
            <a:ext cx="1224000" cy="2232000"/>
            <a:chOff x="4714920" y="1484280"/>
            <a:chExt cx="1224000" cy="2232000"/>
          </a:xfrm>
        </p:grpSpPr>
        <p:sp>
          <p:nvSpPr>
            <p:cNvPr id="375" name=""/>
            <p:cNvSpPr/>
            <p:nvPr/>
          </p:nvSpPr>
          <p:spPr>
            <a:xfrm>
              <a:off x="471492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5928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83280" y="1484280"/>
            <a:ext cx="1224000" cy="2232000"/>
            <a:chOff x="6083280" y="1484280"/>
            <a:chExt cx="1224000" cy="2232000"/>
          </a:xfrm>
        </p:grpSpPr>
        <p:sp>
          <p:nvSpPr>
            <p:cNvPr id="378" name=""/>
            <p:cNvSpPr/>
            <p:nvPr/>
          </p:nvSpPr>
          <p:spPr>
            <a:xfrm>
              <a:off x="608328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7640" y="148428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451640" y="1484280"/>
            <a:ext cx="1224000" cy="2232000"/>
            <a:chOff x="7451640" y="1484280"/>
            <a:chExt cx="1224000" cy="2232000"/>
          </a:xfrm>
        </p:grpSpPr>
        <p:sp>
          <p:nvSpPr>
            <p:cNvPr id="381" name=""/>
            <p:cNvSpPr/>
            <p:nvPr/>
          </p:nvSpPr>
          <p:spPr>
            <a:xfrm>
              <a:off x="7451640" y="1989000"/>
              <a:ext cx="1224000" cy="172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67640" y="148428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11280" y="4149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ba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472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forwar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y.go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20000" y="609300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特定窗口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信息。一个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格式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 // host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 / path # hash ?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其中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rotoco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信协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机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通信端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路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定位锚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查询信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放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&gt;…&lt;/Script&gt;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标记符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scrip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document.write("</a:t>
            </a:r>
            <a:r>
              <a:rPr b="0" lang="zh-CN" sz="3200" spc="-1" strike="noStrike">
                <a:solidFill>
                  <a:srgbClr val="e33e1d"/>
                </a:solidFill>
                <a:latin typeface="Times New Roman"/>
              </a:rPr>
              <a:t>欢迎您学习</a:t>
            </a:r>
            <a:r>
              <a:rPr b="0" lang="en-US" sz="3200" spc="-1" strike="noStrike">
                <a:solidFill>
                  <a:srgbClr val="e33e1d"/>
                </a:solidFill>
                <a:latin typeface="Times New Roman"/>
              </a:rPr>
              <a:t>JavaScript!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50920" y="907920"/>
            <a:ext cx="856908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tion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定位锚点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主机名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通信协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以问号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始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一部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于指定搜索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5092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load()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新加载（刷新）当前的网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lace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网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用特定的网页取代当前的网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普通文字实现超链接的范例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自动打开网页范例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位置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OC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50920" y="907920"/>
            <a:ext cx="85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每一个框架对象相当于窗口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WINDOW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因此框架对象可以使用窗口对象的所有属性和方法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32000" y="1844640"/>
            <a:ext cx="4392720" cy="1728720"/>
            <a:chOff x="3132000" y="1844640"/>
            <a:chExt cx="4392720" cy="1728720"/>
          </a:xfrm>
        </p:grpSpPr>
        <p:sp>
          <p:nvSpPr>
            <p:cNvPr id="396" name=""/>
            <p:cNvSpPr/>
            <p:nvPr/>
          </p:nvSpPr>
          <p:spPr>
            <a:xfrm>
              <a:off x="3132000" y="2205000"/>
              <a:ext cx="439272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32000" y="2781360"/>
              <a:ext cx="439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32360" y="278136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7080" y="2997000"/>
              <a:ext cx="17128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44720" y="2278080"/>
              <a:ext cx="135108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6360" y="2925720"/>
              <a:ext cx="13748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84560" y="1844640"/>
              <a:ext cx="8208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132000" y="4005360"/>
            <a:ext cx="4679640" cy="2518920"/>
            <a:chOff x="3132000" y="4005360"/>
            <a:chExt cx="4679640" cy="2518920"/>
          </a:xfrm>
        </p:grpSpPr>
        <p:sp>
          <p:nvSpPr>
            <p:cNvPr id="404" name=""/>
            <p:cNvSpPr/>
            <p:nvPr/>
          </p:nvSpPr>
          <p:spPr>
            <a:xfrm>
              <a:off x="3132000" y="4005360"/>
              <a:ext cx="1972800" cy="4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4600" y="476712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ft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435640"/>
              <a:ext cx="230184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4600" y="6089040"/>
              <a:ext cx="2327040" cy="43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wnF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18400" y="4425120"/>
              <a:ext cx="0" cy="18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18400" y="62755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8400" y="565344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8400" y="4984920"/>
              <a:ext cx="13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24000" y="1916280"/>
            <a:ext cx="856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组的结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4149720"/>
            <a:ext cx="295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组的层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框架的引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left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up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 down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.frames[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框架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R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24000" y="1197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Document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代表当前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是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组构成的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为每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建立一个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对象，用来显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文件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的一个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A HREF=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中的所有链接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活动链接的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ALINK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link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指向已点击过的超链接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LIN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中的所有表单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所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chors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所有锚点，以数组索引值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背景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GCOLOR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gColo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中文本颜色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&lt;BODY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特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oki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存储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okie.t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件内的一段信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它是该文档对象的一个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URL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该文件的网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itl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的标题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(TITLE&gt;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astModifi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档最后的修改日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rit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字符串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将字符串或数值写到文件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etSelection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取得当前选取的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测试文件对象的颜色属性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网页修改日期时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文档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DOCU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文档中包含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A&gt;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动建立相对应的锚点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chor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属性，搭配数组的索引方式来进行访问控制。例如：文件中的第一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0],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二个锚点对象，叫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cument. anchors [1]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24000" y="981000"/>
            <a:ext cx="8569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锚点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anchor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锚点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锚点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ANCH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代码独立存储为以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js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扩展名的文件，利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属性将该文件调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script 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src="welcome.js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welcome.js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文件内容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document.write("</a:t>
            </a:r>
            <a:r>
              <a:rPr b="0" lang="zh-CN" sz="2800" spc="-1" strike="noStrike">
                <a:solidFill>
                  <a:srgbClr val="e33e1d"/>
                </a:solidFill>
                <a:latin typeface="Tahoma"/>
              </a:rPr>
              <a:t>欢迎您学习</a:t>
            </a:r>
            <a:r>
              <a:rPr b="0" lang="en-US" sz="2800" spc="-1" strike="noStrike">
                <a:solidFill>
                  <a:srgbClr val="e33e1d"/>
                </a:solidFill>
                <a:latin typeface="Tahoma"/>
              </a:rPr>
              <a:t>JavaScript!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2400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无论是文字、图形或图像映射，只要是用来作为超级链接用的对象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相对应的链接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nk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，搭配数组的索引方式来进行访问控制。例如：文件中的第一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二个链接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links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依次类推。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50920" y="907920"/>
            <a:ext cx="8642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链接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links[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ash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中锚点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主机域名或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ost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re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完整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字符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thnam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目录路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ath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907920"/>
            <a:ext cx="8893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r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通信端口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port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rotoc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通信协议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arc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当中的查询字符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arg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代表目标的窗口，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G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4.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链接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LI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68360" y="1125360"/>
            <a:ext cx="835164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文件中包含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相对应的图像对象。这些对象可以用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mage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，搭配数组的索引方式来进行访问控制。例如：文件中的第一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0],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二个图像对象，叫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ocument. images [1]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依次类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50920" y="907920"/>
            <a:ext cx="856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建立图像对象：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ew image(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宽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][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高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order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边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ORD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width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宽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eight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高度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水平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space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垂直空白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SPAC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owsrc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图像的第分辨率版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W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mplete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示浏览器是否完成了图像的加载，一个布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Abor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rro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Lo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图像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IM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表单对象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供一个让客户端输入文字或进行选择的功能，例如：单选按钮、复选框、选择列表等。由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组构成，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自动建立一个表单对象，并将用户端的信息送至服务器进行处理。表单对象是文件对象的子对象，同时，它也包含许多子对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表单对象的使用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，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当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O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输入窗体的数据传送到服务器上的方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FORM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中的所有控件，以数组索引值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ength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中的控件的个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heckbox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选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Hidde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HIDDE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隐藏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INPUT TYPE=”BUTTON”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adio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选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复位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自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交按钮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单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are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多行文本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&lt;SELECT&gt;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选择框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属性本身也是一个对象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ubmit(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提交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reset(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写表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与使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的作用相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表单对象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(FOR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ex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文本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1916280"/>
            <a:ext cx="8642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避免某些浏览器不完全支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而造成错误，可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代码用注释语句括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Script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!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lt;/Script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052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4.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TML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文档中嵌入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JavaScript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tex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举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TITLE&gt;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单行文本范例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FORM name=form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姓名：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text" NAME="name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INPUT TYPE="button" VALUE="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请单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Click=alert(form1.name1.value + "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，谢谢你！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")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&lt;/FORM&g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运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单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1052640"/>
            <a:ext cx="79581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ssword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密码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，让程序员可以通过一定的方法来控制这一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其引用方法与单行文本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密码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utton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时，自动建立一个按钮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按钮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（参数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907920"/>
            <a:ext cx="8353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上显示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钮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常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该对象上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该对象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再该对象上单击鼠标左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ubmi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时，自动建立一个提交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其用法语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提交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&lt;INPUT&gt;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标记中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ype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属性值为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reset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时，自动建立一个重置按钮对象，并将该对象放到表单对象的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其用法与按钮对象相同。</a:t>
            </a:r>
            <a:r>
              <a:rPr b="0" lang="zh-CN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重置按钮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4360" y="1052640"/>
            <a:ext cx="795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用户登录界面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输入信用卡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输入四位密码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当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avaScrip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读到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&lt;TEXTAREA&gt;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标记时，自动建立一个文本区域对象，并将该对象放到表单对象的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element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数组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使用文本对象的格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cument.form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elements[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索引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.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cument.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表单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文本区域对象名称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参数群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50920" y="907920"/>
            <a:ext cx="86421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default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缺省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初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名字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AM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的当前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VALU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属性值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r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该对象所在的表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blur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把焦点从文本框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ocus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把焦点移到文本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lect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将该对象设置成选取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Blu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hang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Focu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Selec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DblClic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Pres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Key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ve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U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Out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Down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1600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多行文本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3:33:05Z</dcterms:created>
  <dc:creator>zyl</dc:creator>
  <dc:description/>
  <dc:language>en-US</dc:language>
  <cp:lastModifiedBy>guo</cp:lastModifiedBy>
  <dcterms:modified xsi:type="dcterms:W3CDTF">2008-04-09T22:54:43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5</vt:r8>
  </property>
</Properties>
</file>