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C32D-BF0C-4777-8F5E-19925F26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5E26-98B6-48E8-8551-141B8CCC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7B4B-DA57-407F-95E8-766FD0B94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0386-E953-4BEA-8562-E071E3710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2F45-DB55-41BD-8328-84C9067D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6760-B96B-43E2-97A4-4072D403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6664-2E7B-4083-AD3F-EDEC0F1F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D349-1720-451B-9B6E-B508AA56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2AFB-4C8E-4199-9943-016FE334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077D-CD5E-4D75-AD74-361F51C7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F0FB-E10E-4181-8EB2-AEE3DCF4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D4BA-3509-4D0F-96FC-D9522995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FEF2-7B4D-42F5-A547-4B357B806E56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49440" y="6491160"/>
            <a:ext cx="26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PHP</a:t>
            </a:r>
            <a:r>
              <a:rPr b="1" lang="zh-CN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编程基础与实例教程</a:t>
            </a: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(</a:t>
            </a:r>
            <a:r>
              <a:rPr b="1" lang="zh-CN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第二版</a:t>
            </a: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3534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zh-CN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编程基础与实例教程</a:t>
            </a:r>
            <a:r>
              <a:rPr b="1" lang="zh-CN" sz="2800" spc="-1" strike="noStrike" baseline="100000">
                <a:solidFill>
                  <a:srgbClr val="ff9900"/>
                </a:solidFill>
                <a:latin typeface="楷体_GB2312"/>
                <a:ea typeface="楷体_GB2312"/>
              </a:rPr>
              <a:t>第二版</a:t>
            </a:r>
            <a:br>
              <a:rPr sz="5400"/>
            </a:br>
            <a:r>
              <a:rPr b="1" lang="en-US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 Fundamentals &amp; Practices</a:t>
            </a:r>
            <a:r>
              <a:rPr b="1" lang="en-US" sz="1600" spc="-1" strike="noStrike" baseline="100000">
                <a:solidFill>
                  <a:srgbClr val="ff9900"/>
                </a:solidFill>
                <a:latin typeface="Times New Roman"/>
                <a:ea typeface="楷体_GB2312"/>
              </a:rPr>
              <a:t>2nd Edition</a:t>
            </a:r>
            <a:endParaRPr b="1" lang="en-US" sz="16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458136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第 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</a:t>
            </a: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章 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PHP</a:t>
            </a:r>
            <a:r>
              <a:rPr b="0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基础 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6147360" y="378936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主讲：孔祥盛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程序的组成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1052640"/>
            <a:ext cx="8424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的数据采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gister.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负责采集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户注册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M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单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交的数据，然后进行显示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3357720"/>
            <a:ext cx="7848720" cy="24382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userName = $_GET["userName"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password = $_GET["password"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confirmPassword = $_GET["confirmPassword"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/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代码输出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userName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量、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password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量、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confirmPassword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量的值，并输出换行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$userNam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&lt;br/&gt;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$passwor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&lt;br/&gt;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$confirmPasswor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程序的组成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052640"/>
            <a:ext cx="8424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处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修改后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gister.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负责采集表单提交数据，然后对这些数据进行简单处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4360" y="2852640"/>
            <a:ext cx="5832360" cy="28645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userName = $_GET["userName"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password = $_GET["password"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confirmPassword = $_GET["confirmPassword"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f($password == $confirmPassword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可以注册了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&lt;br/&gt;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加密后的密码为：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md5($passwor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else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输入的密码和确认密码不一致，请重新注册！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80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程序的组成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052640"/>
            <a:ext cx="842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的输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常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向浏览器输出字符串数据，除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外，还可以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i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或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intf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向浏览器输出字符串数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i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出的是没有经过格式化的字符串，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intf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则是输出经过格式化的字符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复合数据类型的数据（如数组或对象），可选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int_r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输出。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码块中只嵌入一条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，且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是一条输出语句，此时可以使用输出运算符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= ?&gt;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出字符串数据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3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编码规范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052640"/>
            <a:ext cx="842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写规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缩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大括号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{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运算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876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3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服务器构建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052640"/>
            <a:ext cx="8424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名规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常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数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数据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类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3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服务器构建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105264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代码添加注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件开发是一种高级脑力劳动，精妙的算法之后往往伴随着难以理解的代码，对于不经常维护的代码，往往连开发者本人也忘记编写的初衷。要为代码添加注释，增强代码的可读性和可维护性。有时添加注释和编写代码一样难，但养成这样的习惯是必要的。请记住：尽最大努力把方便留给别人和将来的自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图片 4" descr="未命名"/>
          <p:cNvPicPr/>
          <p:nvPr/>
        </p:nvPicPr>
        <p:blipFill>
          <a:blip r:embed="rId1"/>
          <a:stretch/>
        </p:blipFill>
        <p:spPr>
          <a:xfrm>
            <a:off x="54000" y="263520"/>
            <a:ext cx="9042480" cy="61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本章大纲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PHP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代码基本语法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PHP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程序的组成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3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编码规范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代码基本语法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始标记与结束标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开始标记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结束标记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例如程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WithPHP.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开始标记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script language="php"&gt;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结束标记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/script&gt;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开始标记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结束标记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开始标记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%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结束标记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%&gt;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16000" y="4149720"/>
            <a:ext cx="53532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1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代码基本语法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052640"/>
            <a:ext cx="842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PHP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支持如下三种注释风格（例如程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nnotation.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种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*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行注释风格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种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/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行注释风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种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#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行注释风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51640" y="1844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57720"/>
            <a:ext cx="6481800" cy="329076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行注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件依次输出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ello world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  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换行符   系统当前时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hello world!";//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行注释，该语句输出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ello world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&lt;br/&gt;";#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行注释，该语句输出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ello world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date("Y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);//PHP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行注释，该语句输出系统当前时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!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在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始标签和结束标签之外的代码为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码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里演示的是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注释风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br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释和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注释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1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代码基本语法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052640"/>
            <a:ext cx="842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PHP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及语句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一般由若干条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构成，每条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完成某项操作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每条语句以英文分号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束，只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束标记之前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可以省略结尾分号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多条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之间密不可分，可以使用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{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这些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包含起来形成语句块。单独使用语句块时没有任何意义，语句块只有和条件控制语句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f-els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循环语句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hil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函数等一起使用时才有意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程序的组成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052640"/>
            <a:ext cx="842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功能的角度，完整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可以划分为三个组成部分：数据的采集、数据的处理和数据的输出，其中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数据采集主要包括三个过程：浏览器端的数据采集、浏览器端数据的提交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的数据采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程序的组成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05264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于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传统的高级语言一样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变量或常量实现数据在内存中的存储，并使用变量名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userName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常量名（例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I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实现了内存数据的按名存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等于号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赋值运算符）给变量赋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允许直接访问一个未经初始化的变量，否则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处理器会提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otic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信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供变量作用域的概念实现内存数据的安全访问控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入了数据类型的概念修饰和管理数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传统的高级语言不一样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量名之前要加美元符号“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标识，例如 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serNam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一种“弱类型的语言”，声明变量或常量时，不需要事先声明变量或常量的数据类型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会自动由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处理器根据变量的值将变量转换成适当的数据类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程序的组成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052640"/>
            <a:ext cx="842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类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类型分为四种：标量数据类型、复合数据类型、特殊数据类型和伪类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中标量数据类型共有四种：布尔型、整型、浮点型和字符串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合数据类型共有两种：数组和对象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殊数据类型有资源数据类型和空数据类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伪类型通常在函数的定义中使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-2 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程序的组成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1052640"/>
            <a:ext cx="842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器端的数据采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器端数据的采集主要依靠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供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M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单实现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M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单是包含一系列表单元素的区域，表单元素是允许用户在表单中输入信息的元素。常见的表单元素有：文本域、下拉列表、单选框、复选框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的代码是简单的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户注册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M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单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码，该表单的显示效果如图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2200" y="4508640"/>
            <a:ext cx="5905440" cy="201204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form action="register.php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 户 名：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input type="text" name="userName"/&gt;&lt;br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密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amp;nbsp;&amp;nbsp;&amp;nbsp;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码 ：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input type="password" name="password"/&gt;&lt;br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确认密码：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input type="password" name="confirmPassword"/&gt;&lt;br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input type="submit" value=" 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 交 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input type="reset" value=" </a:t>
            </a:r>
            <a:r>
              <a:rPr b="1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 填 </a:t>
            </a: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/for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372360" y="4437000"/>
            <a:ext cx="257472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15:03:45Z</dcterms:created>
  <dc:creator>孔祥盛</dc:creator>
  <dc:description/>
  <cp:keywords/>
  <dc:language>en-US</dc:language>
  <cp:lastModifiedBy>微软用户</cp:lastModifiedBy>
  <dcterms:modified xsi:type="dcterms:W3CDTF">2016-05-25T08:46:09Z</dcterms:modified>
  <cp:revision>253</cp:revision>
  <dc:subject/>
  <dc:title>PHP编程基础与实例教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