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E3F-261D-4704-8799-87D74F53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E02D-867B-4022-A36C-17B31090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0287-6932-4959-A963-663BB83E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F22-BF05-46FD-9126-E5697C1D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E24F-A070-46D7-BA84-57315E0D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593-5ED3-4897-91C1-24474F13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75A-C820-446A-89D2-37B07A70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F917-ED5D-4C75-906F-3F419097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A67-BF02-4EA3-BC74-B3B7A533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947-9E18-4D14-8A0F-3602BC8F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296-E5C4-4479-B52A-48FD633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30C3-B547-4EDA-8501-9D92FB3F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5DAE-951F-4FA7-818A-FAC49C44A91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9440" y="1125000"/>
            <a:ext cx="83502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组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二维数组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元素“值”的访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中存在两个“键”，因此访问数组元素的“值”时需要指定这两个“键”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tudents["2010001"]["studentName"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的值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中第一个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2010001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二维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tudent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某一“行”，第二个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studentName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二维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tudent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该“行”的某一“列”。只使用第一个“键”访问数组时，访问的是二维数组中的某一“行”，该行是一个一维数组（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tudents["2010001"]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的值是数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创建数组的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ang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range(mixed start, mixed e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快速创建一个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范围的数字数组或字符数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说明：如果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 &gt; en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序列将从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pl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explode(string separator, string st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使用指定的字符串分隔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para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割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分割后的字符串放到数组中，并返回该数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创建数组的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combin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combine ( array keys, array values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创建一个新数组，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作为新数组的“键”，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ue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作为新数组的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fill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fill ( int start_key, int length, mixed 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创建一个数组，并为该数组添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数组元素，数组元素的“键”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_ke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开始递增，每个数组元素的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是一个大于零的数值，否则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提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rn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警告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14768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创建数组的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a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pad ( array arr, int pad_size, mixed pad_valu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ad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个拷贝，并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valu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其填补到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siz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定的长度。如果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siz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正，则数组被填补到右侧，如果为负则从左侧开始填补。如果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siz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绝对值小于或等于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put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长度则没有任何填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统计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count (array arr[, int mode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元素的个数。如果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多维数组，可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de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的值设为常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_RECURSIV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所有元素的个数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de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默认值是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该函数的别名函数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izeof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x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max ( array arr [, array ...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元素的最大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将非数值的字符串当成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，但如果这个正是最大的数值则仍然会返回一个字符串。如果多个数组元素的值为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是最大值，函数会返回其中数值的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果数组元素中没有数值的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返回按字母表顺序最大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统计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n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min ( array arr [, array ...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元素的最小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字符串当成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，如果字符串正是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最小的数值，则仍然会返回一个字符串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n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字符串时，该字符串为数组中顺序靠前的字符串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um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mber array_sum ( array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所有元素值的和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um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整数或浮点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非数值类型的元素值自动类型转换为整数或浮点数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统计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roduc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mber array_product ( array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所有元素值的乘积，该函数返回整数或浮点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非数值类型的数据自动类型转换为整数或浮点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count_value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count_values ( array 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统计并计算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所有元素的值出现的次数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统计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数组的遍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数组的所有元素的过程称为数组的遍历，使用数组统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un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可以遍历连续整数“键”的数组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rgodic1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该程序的运行结果如图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3710160"/>
            <a:ext cx="4572000" cy="2288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hars = range('a','d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unts = count($char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($key=0;$key&lt;$counts;$key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chars[$key]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526000" y="3686040"/>
            <a:ext cx="2862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在创建之后都会自动建立一个“内部指针系统”：每个元素有一个“内部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int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下一个元素；并且“内部指针系统”会为每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自动建立一个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的第一个元素，图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2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Array2.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产生的数组指针结构图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3749760"/>
            <a:ext cx="64641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key ( array &amp;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“当前指针”所指元素的“键”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该函数并不移动“当前指针”，也不会修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部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current ( array &amp;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“当前指针”所指元素的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有个别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该函数并不移动“当前指针” ，也不会修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部结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组的基本概念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一维数组的创建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多维数组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5-4 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数组处理函数及应用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x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nex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下一个元素；然后返回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当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的最后一个元素时，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x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移动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后，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“空”，并且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的元素“值”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d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end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个元素；然后返回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ev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prev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一个元素；然后返回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当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“空”时，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ev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移动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后，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还为“空”，并且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的元素“值”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e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rese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指向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第一个元素；然后返回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“值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ach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each (array &amp;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以数组形式返回“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（包括“键”和“值”），然后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使“当前指针”指向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一个元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该函数返回的数组中共有四个元素（“键值对”），四个元素的“键”名分别为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“键”名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元素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键名，“键”名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lu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元素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所指的元素值（见表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497560" y="961920"/>
          <a:ext cx="3178080" cy="1676520"/>
        </p:xfrm>
        <a:graphic>
          <a:graphicData uri="http://schemas.openxmlformats.org/drawingml/2006/table">
            <a:tbl>
              <a:tblPr/>
              <a:tblGrid>
                <a:gridCol w="1405080"/>
                <a:gridCol w="1773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urrent-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urren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"key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urrent-k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"value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urren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指针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非连续“键”的数组遍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x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可以遍历非连续“键”的数组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rgodic2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068640"/>
            <a:ext cx="6102360" cy="36601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lors = array('orange', 'red', 'yellow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fruits = array('orange', 'apple', 'banan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temp = array_combine($colors, $frui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et($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key = key($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value = current($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key."&amp;nbsp;==&gt;&amp;nbsp;".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while(next($temp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795920" y="3213000"/>
            <a:ext cx="431316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和变量间的转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s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list ( mixed varname1[, mixed varname2[,mixed ...]]) = array ar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一步操作给一组变量进行赋值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s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中定义变量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，变量值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s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仅用于数字“键”的数组，并要求数字“键”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连续递增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trac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extract ( array 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trac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使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一组变量，其中变量名为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的键名，变量值为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“键”对应的值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和变量间的转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mpac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compact ( mixed varname1[, mixed varname2[,mixed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mpac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数组，数组每个元素的“键”名为变量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2...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每个数组元素的“值”为变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name2...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和变量间的转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s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ach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可以实现数组的遍历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rgodic3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852640"/>
            <a:ext cx="5327640" cy="39344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lors = array('orange', 'red', 'yellow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fruits = array('orange', 'apple', 'banana'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temp = array_combine($colors, $frui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et($tem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(list($key,$value) = each($temp)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key."==&gt;".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92720" y="2852640"/>
            <a:ext cx="35877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遍历语言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a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有两种用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ach(array as $va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该方法循环遍历给定的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次循环中，“当前指针”所指元素的“值”赋给变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valu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，使“当前指针”指向下一个元素，周而复始，直至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个元素，此时“当前指针”为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each(array as $key=&gt;$valu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该方法循环遍历给定的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次循环中，“当前指针”所指元素的“键”名赋给变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ke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“当前指针”所指元素的值赋给变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va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移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前指针”，使“当前指针”指向下一个元素，周而复始，直至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个元素，此时“当前指针”为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的基本概念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引入数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标量数据类型定义的变量只能存储单个“数据”，仅依靠标量数据类型远不能解决现实生活中的一些常见问题，例如一个设置个人信息的页面如图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6840" y="3573360"/>
            <a:ext cx="530388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检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key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 array_keys ( array arr [, mixed searchValue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keys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以数组的形式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的“键名”。 如果指定了可选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只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的键名；否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的所有键名都会被返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字符串，则比较以区分大小写的方式进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value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 array_values ( array 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values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以数组的形式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所有的元素值（过滤掉重复的元素值），并为该数组建立连续的整数“键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检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_array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in_array ( mixed searchValue, array arr [, bool strict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检查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是否存在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果存在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果第三个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_array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还会检查数据类型是否相同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c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默认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字符串，则比较时区分大小写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检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key_exist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array_key_exists ( mixed keyName, array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检查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是否存在键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Nam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果存在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检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earch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array_search ( mixed searchValue, array arr [, bool strict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搜索给定的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果找到则返回对应的键名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如果第三个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earch 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还会检查数据类型是否相同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c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默认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字符串，则比较时区分大小写；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Va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出现不止一次，则返回第一个匹配的键；要返回所有匹配值的键，应该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key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检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uniqu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unique ( array arra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uniqu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移除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重复的元素“值”的新数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uniqu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保持了原有的“键值对”对应关系，对每个值只保留第一个遇到的键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排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sor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按元素“值”的升序（先是数字、然后是标点符号、最后是字母）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排序。如果排序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为排序后的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新的“整数”键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asor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按元素“值”的升序（先是数字、然后是标点符号、最后是字母）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排序。如果排序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排序后，保持数组元素原有的“键值对”对应关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排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是一致的，不同的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是按降序对数组进行排序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ksort ( array &amp;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键名升序排序，并保持数组元素原有的“键值对”对应关系。如果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排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krsort ( array &amp;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r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键名降序排序，并保持数组元素原有的“键值对”对应关系。如果成功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否则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排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t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natsor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“自然排序”算法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“值”进行升序排序，并保持数组元素原有的“键值对”对应关系不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tcasesor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natcasesor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“自然排序”算法对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“值”进行不区分大小写字母的升序排序，并保持数组元素原有的“键值对”对应关系不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排序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uffl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ool shuffle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uffl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为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机排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uffle 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为随机排序后的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赋予新的键名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revers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reverse ( array arr [, bool preserve_keys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revers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和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素顺序相反的新数组，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eserve_key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保持数组元素原有的“键值对”对应关系不变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的基本概念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与数据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ush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array_push ( array &amp;arr, mixed var1 [, mixed var2 [, mixed …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ush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成一个栈，并将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2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压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末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op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array_pop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op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弹出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个元素，并返回该元素值。如果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空（或者不是数组）将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pop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后会把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当前指针”复位（自动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e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与数据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unshif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array_unshift ( array &amp;arr, mixed var1 [, mixed var2 [, mixed …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unshif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成一个特殊的队列（如图所示），并将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ar1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插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队首。该函数返回入队元素的个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这个特殊的队列限定在对首插入元素，在队首删除元素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42920" y="4869000"/>
            <a:ext cx="60865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与数据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hif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array_shift ( array &amp;ar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hif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删除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个元素，并返回该元素值。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空（或者不是数组）将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shif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后会把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“当前指针”复位（自动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e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集合运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merg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merge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合并为一个新数组，该函数返回该新数组（集合的并集运算）。多个数组中，如果元素的键名相同，则后面的数组的元素“值”覆盖前面数组的元素“值”。如果数组元素的键名是数字，后面的值将不会覆盖原来的值，而是附加到后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集合运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diff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“值”是所有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但不在任何其它参数数组中的元素“值”（集合的差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intersect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“值”是即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，又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数组中出现的元素“值”（集合的交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集合运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_assoc 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diff_assoc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_assoc 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是所有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但不在任何其它参数数组中的元素（集合的差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注意数组元素的键名也用于比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集合运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_assoc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intersect_assoc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_assoc 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是即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，又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数组中出现的元素（集合的交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注意数组元素的键名也用于比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4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数组处理函数及应用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集合运算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_ke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diff_key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diff_key 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“键”是所有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但不在任何其它参数数组中的元素“键”（集合的差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_key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array_intersect_key ( array arr1 [, array arr2 [, array ...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_intersect_key 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一个新数组，新数组中的元素“键”是即在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中，又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数组中出现的元素“键”（集合的交集运算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一维数组的创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将变量声明为数组元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变量声明为一个数组元素有三种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种方法：不指定数组元素的“键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例程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haracters[ ] = "humour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种方法：将数组元素的“键”指定为某个整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例程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terests[2] = "music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种方法：将数组元素的“键”指定为某个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示例程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lors["red"] = "red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578480"/>
            <a:ext cx="3887640" cy="19213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程序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Array2.php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terests[2] = "music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terests[5] = "movie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terests[1] = "computer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terests[] = "software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_r($interest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一维数组的创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5264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创建数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了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创建数组，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接受一定数量用逗号分隔的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 =&gt; value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对，这样可以一次性地为数组添加多个元素（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略，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ey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为整数）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Array4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933720"/>
            <a:ext cx="8135640" cy="146556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lors = array("red"=&gt;"red","green",3=&gt;"white",5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_r($colors);//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出：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( [red] =&gt; red [0] =&gt; green [3] =&gt; white [4] =&gt; 5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一维数组的创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建数组的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如果数组元素中的“键”是一个浮点数，则“键”将被强制转换为整数（例如浮点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被强制转换为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；如果“键”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“键”将被强制转换为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如果数组元素中的“键”是一个字符串，且该字符串完全符合整数格式时，数组元素的“键”将被强制转换为整数（例如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9"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被强制转换为整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由于数组元素中的“键”唯一标识一个元素，因此数组中元素的“键”不能相等（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=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）。如果两个数组元素的“键”相等，“键”对应的“值”将被覆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不要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中使用诸如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 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d=&gt;"red"  ”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键值对的方式创建数组元素，也不要使用诸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lors[red] = “red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赋值语句的方式创建数组元素，否则程序的可读性及运行效率将大打折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一维数组的创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元素“值”的访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数组元素值的方法和访问变量值的方法相同：通过指定数组名并在方括号内指定“键名”的方式“访问”数组元素的“值”。使用这样的方法访问数组，不仅可以读取某个数组元素的“值”，还可以为数组添加数组元素以及修改数组元素的“值”，并可以像访问“变量”的方法访问数组元素的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两种变量赋值方式：传值赋值和传地址赋值，对于数组同样适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二维数组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的创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的创建方法和一维数组的创建方法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一：直接将变量声明为二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二：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创建二维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3284640"/>
            <a:ext cx="6696000" cy="371700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tudents = array(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2010001"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"studentNo"=&gt;"2010001","studentName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三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,"studentSex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2010002"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"studentNo"=&gt;"2010002","studentName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四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,"studentSex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2010003"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"studentNo"=&gt;"2010003","studentName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五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,"studentSex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2010004"=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("studentNo"=&gt;"2010004","studentName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六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,"studentSex"=&gt;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女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_r($student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6:36Z</dcterms:modified>
  <cp:revision>426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