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F0E-3673-47B3-A3EA-44ED2E1A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0A4-6410-487D-984C-1D7BA3ED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511-EB0C-4BCE-A79D-22819914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DD9-43CC-4BDD-B3A6-9712C80D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780-2CA3-4424-84DE-7311CBB3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3B6-B4FE-47CE-8FDA-43404A84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98A-3A0D-47AD-BE9B-506FCFA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A90-5FC3-4481-B181-9B57312A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4FD-810D-4DBB-8654-9DEEB6C8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F21-3EA2-4952-9309-4A8FA87C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100-25B2-48CE-A6DD-6F4B976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1623-23A1-4E28-9BEA-EBE19D2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E01F-66A6-4BC9-8F84-AE7264D107D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62472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页面美工 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高级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改语言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改皮肤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添加中文字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回车键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工具栏展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的文字颜色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的文字字号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工具栏集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olbar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表情文件所在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置在线编辑器表情文件列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线编辑器中表情按钮的其它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新闻发布系统中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989000"/>
            <a:ext cx="8280360" cy="3077640"/>
          </a:xfrm>
          <a:prstGeom prst="rect">
            <a:avLst/>
          </a:prstGeom>
          <a:noFill/>
          <a:ln w="1908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以新闻添加页面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news_add.ph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代码为例，将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news_add.ph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程序中的代码片段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textarea cols="60" rows="16" name="content"&gt;&lt;/textarea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修改为如下代码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?ph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include("fckeditor/fckeditor.php");/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载入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类文件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 = new FCKeditor('content');  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创建名称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cont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在线编辑器，实例名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BasePath = 'fckeditor/';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根目录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Width = 550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宽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Height = 350;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高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Value = 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请在此输入新闻的内容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内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ToolbarSet = "Default"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工具栏集合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Config['EnterMode'] = 'br'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设置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CKedit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实例的额外配置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oFCKeditor-&gt;Create() ;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//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显示在线编辑器的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TM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代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?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842472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文件管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文件浏览”功能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“快速文件上传”功能的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中文乱码问题的解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文件管理的高级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瘦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146240"/>
            <a:ext cx="84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V+CS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界面布局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00" y="1555920"/>
            <a:ext cx="4175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" y="-27360"/>
            <a:ext cx="88772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8135640" cy="183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1146240"/>
            <a:ext cx="8424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V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现页面布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备图片素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9640" y="2384280"/>
            <a:ext cx="820908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116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S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热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628640"/>
            <a:ext cx="4176720" cy="456948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od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ont:12px 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宋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text-align:cent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FF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contain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8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head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8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menu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8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74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:url("../images/logo.gif") no-repe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1557360"/>
            <a:ext cx="4464000" cy="45694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bann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778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177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:url('../images/banner.jpg') no-repea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pagebod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778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sideba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163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loat:lef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BDBDB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login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10px 0px 0px 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2276640"/>
            <a:ext cx="5472360" cy="3503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mainbody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text-align:lef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61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50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loat:r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D8D8D8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mainfunction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10px 0px 0px 1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#footer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width:778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height:40p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argin:0px au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background-color:#FFCC0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3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页面布局的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10016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ade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pagebod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foote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实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4 </a:t>
            </a:r>
            <a:r>
              <a:rPr b="1" lang="en-US" sz="3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静态和动态页面的嵌入</a:t>
            </a:r>
            <a:endParaRPr b="1" lang="en-US" sz="3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18440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用户管理功能嵌入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i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nu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代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主要功能嵌入到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infunction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sideba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inbod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的高度自适应功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止图片太宽撑破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ainbod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JavaScript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脚本语言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在线编辑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页面布局的实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3-4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静态和动态页面的嵌入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1 JavaScript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语言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．删除新闻信息前弹出用户确定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提供新闻编辑的撤销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前的准备工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InstanceNam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的名称（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该成员变量需要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构造方法一起使用才有意义。例如代码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 = new FCKeditor('content'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造了一个名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在线编辑器，该在线编辑器的实例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线编辑器的名称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nt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类似于多行文本框表单控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xtare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名称；通过实例名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可以访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例中的其它成员变量，并可以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052640"/>
            <a:ext cx="842472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BasePa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目录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根目录实际上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_php5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config.j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所在的目录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BasePath = 'fckeditor/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Wid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实例的宽度（单位像素），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Width = 5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Heigh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实例的高度（单位像素），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Height = 35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Valu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的内容，一般对应于多行文本框表单控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xtare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。例如代码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Value = 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在此输入新闻的内容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ToolbarSe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实例的工具栏集合。默认情况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faul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asic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工具栏集合，工具栏集合类似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窗口中的格式工具栏与常用工具栏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ToolbarSet = "Default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ToolbarSet = "Basic"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$Confi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定义了在线编辑器的额外配置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Confi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一个数组，数组中的“键”来自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config.j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中的“属性名”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Config['EnterMode'] = 'br'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3-2 FCKeditor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在线编辑器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FCKedit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和成员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中的成员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function __construct( $instanceNam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构造方法。需要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CKedit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类的成员变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InstanceNa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使用才有意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function CreateHtml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返回某个在线编辑器实例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fckeditor = $oFCKeditor-&gt;CreateHtml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blic function Creat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网页上显示某个在线编辑器实例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，例如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oFCKeditor-&gt;Create()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36Z</dcterms:modified>
  <cp:revision>516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