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B0DD-DADB-4F80-BAD3-9223B105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835-56D9-481C-A82C-FF7F3E0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76C-10B5-4780-AE22-E519EA51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8660-E4E6-4344-B42E-B27A6C83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C12-D379-4E02-9BDB-5825ECD1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64A-6E45-407E-8CCC-9B5B58B9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CB6-D40F-4465-BA6D-42E185E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635-962E-478C-8404-493B2742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282-7B43-4941-9896-CBE3BBFC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D48A-C8E2-4699-B158-2CC8BA86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702-00E6-4792-85A5-C11AD03C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8F2-6AC8-4ECE-A35E-2A404C2D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D69D-3096-4722-8C50-793B3F210A6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处理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8214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字符处理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p_tag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功能：剔除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avaScrip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标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字符串格式化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printf(string format, arg1,arg2,…,ar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返回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式化后的字符串。字符串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包含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转换格式，每个转换格式以百分号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%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开始；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g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g2…arg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参数值替换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对应的转换格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ntf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printf(string format, arg1,arg2,…,arg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参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a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式化后的字符串值打印到浏览器页面上，该函数返回格式化后字符串的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11280" y="2432160"/>
          <a:ext cx="5400720" cy="4389480"/>
        </p:xfrm>
        <a:graphic>
          <a:graphicData uri="http://schemas.openxmlformats.org/drawingml/2006/table">
            <a:tbl>
              <a:tblPr/>
              <a:tblGrid>
                <a:gridCol w="1449360"/>
                <a:gridCol w="3951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格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说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打印百分比符号，不转换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二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对应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SCII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字符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十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可续计数法（比如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.5e+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浮点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八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字符串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无符号十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小写十六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转换成大写十六进制数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华文楷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-999"/>
                            </p:stCondLst>
                            <p:childTnLst>
                              <p:par>
                                <p:cTn id="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长度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len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len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节长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len ( string str [, string encoding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设为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K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2312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使用中文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将一个汉字按照两个字节进行解析，多余的字节将忽略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使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len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时，必须确保配置选项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tension=php_mbstring.dll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出指定位置的子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ubstr ( string str, int start [, int length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位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+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之间的子字符串。若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，则返回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索引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末尾的子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substr ( string str, int start [, int length [, string encoding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取出指定位置的子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cu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strcut ( string str, int start [, int length [, string encoding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cut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将字符串中的每个字符按照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节长度解析，对于占用两个字节的中文汉字，截取时多余的一个字节将舍去，从而避免中文乱码问题的发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pos(string str,string substr[,int offset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以区分大小写的方式查找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次出现的索引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函数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索引位置开始查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rpos(string str,string substr[,int offset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以区分大小写的方式查找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一次出现的位置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则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可选参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ffse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函数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个索引位置开始查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字符串中查找指定子字符串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pos(string str,string substr [, int offset [, string encoding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trrpos(string str,string substr [, int offset [, string encoding]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trrpo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出字符串中指定子串的剩余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str(string str,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出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开始的剩余子串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没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该函数区分大小写，该函数的别名是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h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str(string str,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取出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开始的剩余子串，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没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字符串操作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子字符串出现的频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ubstr_count ( string str, string sub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返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出现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次数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mb_substr_count ( string str, string substring [, string encoding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，区别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substr_coun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解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的指定方法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字符串处理函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2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中的字符串处理函数的应用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比较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mp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cmp ( string str1, string str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区分大小写的方式比较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两个字符串相等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大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小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asecmp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strcmp ( string str1, string str2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不区分大小写的方式比较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若两个字符串相等，函数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大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；若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于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函数返回小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整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连接和分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m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implode (string glue, array a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lu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元素连接成一个新字符串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m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实现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xplod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相反的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k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tok (string str, string sepa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使用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parat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一次分割，若要进行多次分割，需要连续调用该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说明：在第一次调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k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时，需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；在以后的调用过程中，不需要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replac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str_replace(mixed search, mixed replacement, mixed 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以区分大小写的方式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arc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ubstr_replace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xed substr_replace ( mixed str, string replacement, int start [, int length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+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置之间的字符串替换成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没有指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，则替换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末尾的字符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替换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tr(string str,array replacem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所有字符串转换为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placement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相应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se_url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rray parse_url ( string url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解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，以数组方式返回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成部分，包括协议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chem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主机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端口号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r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户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密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路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程序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片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agmen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se_str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parse_str ( string query_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uery_str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所有的“参数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值”解析为变量（参数名为变量名，值为参数值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义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urlen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特殊字符转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urlde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于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“编码”后的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由于浏览器会自动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转义后的字符串进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，因此一般不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de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，除非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了两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05264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义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rawurlencode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encode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大致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decode 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rawurldecode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于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awurlencode()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“编码”后的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码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 UR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构造查询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_build_query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http_build_query ( array formdata [, string prefix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 将数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data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换成查询字符串，查询字符串中的“参数名”来自于数组元素的“键名”，查询字符串中的“参数值”来自于数组元素中的“值”。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efi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指定查询字符串中数字键的前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052640"/>
            <a:ext cx="8424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的字符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rev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rev(string 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英文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颠倒过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repeat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_repeat(string str, int 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重复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定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me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b_convert_encoding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mb_convert_encoding (string str, string to_encoding [, mixed from_encoding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将字符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rom_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方式转换成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o_encoding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3 </a:t>
            </a: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中的字符串处理函数的应用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常用的字符串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删除模糊查询中关键字两边的空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文件下载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发表评论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优化新闻列表显示功能的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模糊查询时关键字以加粗倾斜格式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优化分页函数代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的指定方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单引号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双引号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定界符指定字符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2781360"/>
            <a:ext cx="6769080" cy="39344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me = "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三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submit = "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交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my_form = &lt;&lt;&lt;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名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text" name="name" value="$name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 码 ：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password" name="password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input type="submit" value="$submit"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/for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or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$my_for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的指定方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中的字符处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是由零个或多个字符组成的有限序列，可以通过字符串的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检索字符串中的单个字符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计数）。符串的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；检索字符串中的单个字符时可以使用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index]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index}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式取得该索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de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应的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字符串裁剪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裁剪函数包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rim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_pad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_pad ( string str, int pad_length [, string pad_string [, int pad_type]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用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string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充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得填充后的字符串长度增加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d_length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符长度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换成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l2b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nl2br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l2br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将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n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替换成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行符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大小写转换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供了四个字符串大小写转换的函数，可以将字符串中的字符转换为大写或小写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upp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tolower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cfirs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cwords()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预定义字符前添加或删除反斜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addslashe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在预定义字符前添加反斜线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\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这些预定义字符是：单引号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'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引号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"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反斜线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\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stripslashes ( string st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功能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用于删除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反斜线，经常用于删除由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ddslashe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添加的反斜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2-2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字符串处理函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87850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修剪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字符处理函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p_tag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法格式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ing htmlspecialchars(string str,flags,character_s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功能：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串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特殊字符（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amp;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'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转换成对应的预定义实体，以便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M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析器将预定义实体还原为对应的特殊字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gs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功能就是指定需要转换的双引号还是单引号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aracter_s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参数的功能就是指定转换过程中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specialchars(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可以识别的字符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30Z</dcterms:modified>
  <cp:revision>574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