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14B-F0AF-4EDD-9ADA-B16E4527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EE0-2135-4DA3-B497-3BF11BB3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A8B-B745-448E-AB75-94A73D3A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84A-7B0A-400B-814A-F751C5D7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2385-A089-4EB9-9359-677C570E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8D4-6410-483D-A36F-8CF3C87C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9982-EE1E-48AE-A94F-78D561A0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0F4-3F31-44F7-B8D1-3E15C304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A33-7A6F-4F9F-9391-A2743BCE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18D-F6B6-4499-AC13-163DC2A5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5B8-09FC-4DC1-A21E-6B1B635F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BEA-A460-4B76-8C33-A86B4F7C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D09B-054A-4743-9E02-C1CBECC75A7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82920" y="6491160"/>
            <a:ext cx="26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PHP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编程基础与实例教程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(</a:t>
            </a:r>
            <a:r>
              <a:rPr b="1" lang="zh-CN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第二版</a:t>
            </a:r>
            <a:r>
              <a:rPr b="1" lang="en-US" sz="1800" spc="-1" strike="noStrike">
                <a:solidFill>
                  <a:srgbClr val="9966ff"/>
                </a:solidFill>
                <a:latin typeface="华文楷体"/>
                <a:ea typeface="华文楷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86920" y="1125000"/>
            <a:ext cx="8893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5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编程基础与实例教程</a:t>
            </a:r>
            <a:r>
              <a:rPr b="1" lang="zh-CN" sz="2800" spc="-1" strike="noStrike" baseline="100000">
                <a:solidFill>
                  <a:srgbClr val="ff9900"/>
                </a:solidFill>
                <a:latin typeface="楷体_GB2312"/>
                <a:ea typeface="楷体_GB2312"/>
              </a:rPr>
              <a:t>第二版</a:t>
            </a:r>
            <a:br>
              <a:rPr sz="5400"/>
            </a:br>
            <a:r>
              <a:rPr b="1" lang="en-US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 Fundamentals &amp; Practices</a:t>
            </a:r>
            <a:r>
              <a:rPr b="1" lang="en-US" sz="1600" spc="-1" strike="noStrike" baseline="100000">
                <a:solidFill>
                  <a:srgbClr val="ff9900"/>
                </a:solidFill>
                <a:latin typeface="Times New Roman"/>
                <a:ea typeface="楷体_GB2312"/>
              </a:rPr>
              <a:t>2nd Edition</a:t>
            </a:r>
            <a:endParaRPr b="1" lang="en-US" sz="16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581360"/>
            <a:ext cx="64008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zh-TW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章 </a:t>
            </a:r>
            <a:r>
              <a:rPr b="0" lang="en-US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入门 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6147360" y="378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主讲：孔祥盛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论那一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，它们主要提供两个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储大量的网络资源以供浏览器用户访问。典型的网络资源包括静态页面、动态页面以及各种多媒体网络资源（例如图片、音频、视频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lash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资源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明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上的静态页面通常以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html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htm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文件扩展名；动态页面通常以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php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文件扩展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1052640"/>
            <a:ext cx="8424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HTT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yperText Transfer Protoco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超文本传输协议）的缩写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义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与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通过网络进行无状态通信的一套规则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单地说：无状态是指当一个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向某个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的页面发送请求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ques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后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收到该请求进行处理，然后将处理结果作为响应（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sponse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返回给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与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都不保留当前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信的相关信息。也就是说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打开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上的一个网页，和之前打开这个服务器上的另一个网页之间没有任何联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052640"/>
            <a:ext cx="8424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HTT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遵循请求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Request)/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响应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Response)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型，所有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信连接都被构造成一对儿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响应。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类型多种多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请求方法的不同，可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分为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E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S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AD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PTIONS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U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、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LETE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ARCE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，其中最为常用的请求方法是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E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ST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请求的资源类型不同，可将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分为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态请求以及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态请求。当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访问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上的静态页面时，此时的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求为静态请求；反之亦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ba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是存储、管理数据的容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容器通常包含诸多数据库对象，如表、视图、索引、函数、存储过程、触发器等，这些数据库对象最终都是以文件的形式存储在外存（例如硬盘）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37120" y="838080"/>
            <a:ext cx="4610160" cy="5989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08000" y="170172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“数据库管理系统”，数据库用户可以轻松地实现数据库容器中各种数据库对象的访问（增、删、改、查等操作），并可以轻松地完成数据库的维护工作（备份、恢复、修复等操作），如图所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052640"/>
            <a:ext cx="842472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装有数据库管理系统软件的计算机称为数据库服务器（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Base Serv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前成熟的数据库管理系统主要源自欧美数据库厂商，典型的有美国甲骨文公司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acl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美国微软公司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ces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及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 Serv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德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A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bas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及美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BM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司的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B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formix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机等级考试中，有关数据库的考试科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级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sual FoxPro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ccess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级：数据库技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级：数据库工程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管理系统重要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05264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的工作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904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052640"/>
            <a:ext cx="8424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安装前准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载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mpServer.ex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装程序，推荐使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本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启动后，默认会占用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口号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启动后，默认会占用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06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口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这两个端口号已经被占用时，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或者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则会启动失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肿么办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入“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etstat-aon”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，查看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ID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杀死进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执行“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skill PID”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令，杀死该进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通过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ID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找进程名，命令格式：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asklist | findstr "PID"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0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管理器杀死该进程名的进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87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1052640"/>
            <a:ext cx="8424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安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ampServer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装较为简单，这里不再赘述。安装成功后，打开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地址栏中输入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localhost/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127.0.0.1/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车，若出现如图所示界面，说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安装且启动成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图片 116" descr=""/>
          <p:cNvPicPr/>
          <p:nvPr/>
        </p:nvPicPr>
        <p:blipFill>
          <a:blip r:embed="rId1"/>
          <a:stretch/>
        </p:blipFill>
        <p:spPr>
          <a:xfrm>
            <a:off x="2198520" y="3429000"/>
            <a:ext cx="56372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052640"/>
            <a:ext cx="8424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启动与停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包括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，可以选择“手动启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”或“操作系统自动启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”两种方法启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的启动、停止，实际上对应的是进程的启动与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本章大纲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1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概况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2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脚本程序工作流程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1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-3 </a:t>
            </a:r>
            <a:r>
              <a:rPr b="0" lang="en-US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PHP</a:t>
            </a:r>
            <a:r>
              <a:rPr b="0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服务器构建 </a:t>
            </a:r>
            <a:r>
              <a:rPr b="0" lang="zh-TW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052640"/>
            <a:ext cx="6624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个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为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:\wamp\www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下新建一个名字为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目录，并在该目录下新建一个文本文档（扩展名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xt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然后将该文件名称从“新建文本文档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txt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为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以记事本方式打开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，然后输入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1.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节中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存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件内容后，启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打开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，在地址栏中输入地址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tp://localhost/1/helloworld.php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按“回车”键。如果看到如图所示的页面，则第一个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编写、运行成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40360" y="414360"/>
            <a:ext cx="3024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服务器构建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配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区设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其它常用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设置允许外网访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修改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默认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端口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设置起始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设置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主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设置虚拟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ySQ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库服务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oot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账户设置密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图片 4" descr="未命名"/>
          <p:cNvPicPr/>
          <p:nvPr/>
        </p:nvPicPr>
        <p:blipFill>
          <a:blip r:embed="rId1"/>
          <a:stretch/>
        </p:blipFill>
        <p:spPr>
          <a:xfrm>
            <a:off x="54000" y="263520"/>
            <a:ext cx="904248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概况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052640"/>
            <a:ext cx="84247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优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展到今天，具备了很多优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易学好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免费开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良好的可扩展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平台无关性（跨平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功能全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数据库支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面向对象编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概况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应用领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用于以下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应用领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务器端脚本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命令行脚本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桌面应用程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写服务器端脚本程序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常用的应用领域，这也是本课程着重阐述的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1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zh-CN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概况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HTM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嵌式的脚本语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脚本程序中可包含文本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以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。例如程序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14560" y="2997360"/>
            <a:ext cx="3744720" cy="311148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我的第一个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：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"hello world!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cho date("Y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</a:t>
            </a: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2637000"/>
            <a:ext cx="352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通常以符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?php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，符号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&gt;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束，这两个符号分别叫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标记和结束标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文件名中的扩展名通常使用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php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elloworld.php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 Brows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也叫网页浏览器，简称浏览器。浏览器是用户最为常用的客户端程序，主要功能是显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网页内容，并让用户与这些网页内容产生互动。常见的浏览器有微软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ernet Explor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简称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浏览器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ozilla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irefox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264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ypertext Markup Languag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超文本标记语言）的缩写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是网页的静态内容，这些静态内容由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记产生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识别这些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记并解释执行。例如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浏览器识别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记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将“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br/&gt;”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记解析为一个换行。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开发过程中，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主要负责页面的互动、布局和美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05264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处理器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 Preprocesso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功能是将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中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解释为文本信息，这些文本信息中可以包含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TW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PHP</a:t>
            </a:r>
            <a:r>
              <a:rPr b="1" lang="en-US" sz="4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脚本程序工作流程</a:t>
            </a:r>
            <a:endParaRPr b="1" lang="en-US" sz="4400" spc="-1" strike="noStrike">
              <a:solidFill>
                <a:srgbClr val="ff99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052640"/>
            <a:ext cx="8424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 Serv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也称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WW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orld Wide 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务器，简单地说，安装有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软件的计算机称为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软件有微软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ernet Information Server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IS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务器软件、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BM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Spher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软件以及开源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软件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免费、速度快且性能稳定等特点，它已成为目前最为流行的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软件，本书将使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pache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器部署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HP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程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5:03:45Z</dcterms:created>
  <dc:creator>孔祥盛</dc:creator>
  <dc:description/>
  <cp:keywords/>
  <dc:language>en-US</dc:language>
  <cp:lastModifiedBy>微软用户</cp:lastModifiedBy>
  <dcterms:modified xsi:type="dcterms:W3CDTF">2016-05-25T08:45:40Z</dcterms:modified>
  <cp:revision>173</cp:revision>
  <dc:subject/>
  <dc:title>PHP编程基础与实例教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