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D22-DF48-47BE-AC79-A341F3F5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BEC-036E-4766-9F81-D8DF71DD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B491-E035-49F9-8E04-29B6DA05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2F75-B7D5-48D0-9358-ECD6812F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95C-61A1-4FD1-96D2-53859974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F30-4C79-4EC3-8DD1-D6980F3E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535D-62FA-41D1-BBFB-B2DB71CED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9340-940C-43A6-989E-2E1216DE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E322-385B-41AC-8336-1C88C2B6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AEA-8346-40F0-9186-B8687D7B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C44-3B7F-4EC3-8FD8-A83A9512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2B5-9788-451C-A9E7-6674997E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145F-F9D9-45DD-8488-3F36A0BF55C3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200" y="1125000"/>
            <a:ext cx="8209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流程控制语句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3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其他流程控制语句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tinu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一般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o…whil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结构中使用。在循环结构中，当程序执行至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tinue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程序将跳过本次循环中剩余的代码并开始执行下一次循环。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tinue.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功能是计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+3+5+…+99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奇数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3789360"/>
            <a:ext cx="6048360" cy="222516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um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($i=1;$i&lt;=100;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($i%2==0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tinu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um = $sum + $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87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3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其他流程控制语句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中使用时，它会使程序跳出当前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还可以使用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o…whil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中，使得程序跳出当前循环结构。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reak.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功能时计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+2+3+…+10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3500280"/>
            <a:ext cx="4895640" cy="222516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um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($i=1;;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um = $sum+$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($i==100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su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3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其他流程控制语句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终止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运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i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的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oid exit ( [string message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i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言结构的功能：输出字符串信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然后终止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运行。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程序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it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3213000"/>
            <a:ext cx="4608360" cy="94644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@($a = 2/0) or exit(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生被零除错误！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exit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面的语句将不会运行！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435640" y="2781360"/>
            <a:ext cx="280836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9280" y="486900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it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运行结果可以看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使用逻辑或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表达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a or $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强制只有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结果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会执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某个表达式运行失败时，该表达式的结果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条件控制结构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循环结构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4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其他流程控制语句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条件控制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的语法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(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48240" y="1413000"/>
            <a:ext cx="2255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条件控制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if…else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…e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的语法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(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else{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81680" y="1557360"/>
            <a:ext cx="2735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条件控制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052640"/>
            <a:ext cx="84247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switch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的语法格式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表达式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ase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ase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51160" y="1413000"/>
            <a:ext cx="45975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循环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是最简单的循环语句，它的语法格式跟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相似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条件表达式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08360" y="2565360"/>
            <a:ext cx="295128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循环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o…whil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o…whil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的语法格式如下所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o{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while(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722920" y="1484280"/>
            <a:ext cx="223380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循环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05264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的语法格式如下所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(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;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;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块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语句中，各表达式的功能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功能是初始化循环控制变量，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执行一次，并且不是必需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件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循环控制条件，若条件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执行语句块；若条件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跳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。条件    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不是必需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功能是修改循环控制变量的值。表达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不是必需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33960" y="260280"/>
            <a:ext cx="31100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循环结构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结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ine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结构制作九九乘法表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2349360"/>
            <a:ext cx="6337080" cy="371700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strong&gt;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九乘法表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/strong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table border="1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 ($c=1;$c&lt;=9;$c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tr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 ($d=$c;$d&lt;=9;$d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td align='right'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c."×".$d."=".$c*$d."&amp;nbsp;&amp;nbsp;&amp;nbsp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/td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/tr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tr/&gt;&lt;t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/table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43480" y="4351320"/>
            <a:ext cx="43052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dc:language>en-US</dc:language>
  <cp:lastModifiedBy>微软用户</cp:lastModifiedBy>
  <dcterms:modified xsi:type="dcterms:W3CDTF">2016-05-25T08:46:27Z</dcterms:modified>
  <cp:revision>211</cp:revision>
  <dc:subject/>
  <dc:title>PHP编程基础与实例教程</dc:title>
</cp:coreProperties>
</file>