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D30-4807-4B0A-9B83-D684450F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C84-7D02-4361-A64D-1C1A0EDB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0B5-0056-46BE-A958-CFC16A4C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6201-7287-472B-8AC9-2620A4FB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BA2A-923B-4631-83ED-445B1140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A8D-3507-4995-8A05-B9983468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F60-D017-4CC4-8A16-042C14C7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817-02EF-468F-A8D3-C299C0D1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178-C905-4815-AF74-D0029885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B585-52EA-40B7-8803-FB965CD8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D71-FAAE-4E63-815D-A5A0938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0D1-F32A-419E-9BE8-A7120C1A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5DD6-518C-445E-AD12-0FB64C0B42F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定义函数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参数赋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变量赋值方法相同，自定义函数的参数赋值有两种方法：传值赋值和传地址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传值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认情况下，自定义函数的参数是按传值赋值的方式为函数参数赋值，即：将一个值的“拷贝”赋值给函数的参数（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yValue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传地址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参数也可使用传地址赋值，即：将一个变量的“引用”传递给函数的参数。和变量传地址赋值的方式一样，在函数的参数名前追加一个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符实现传地址赋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作用域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作用域取决于变量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的位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函数内定义的变量（包括函数的参数）为局部变量，局部变量在调用函数结束后被自动回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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函数外定义的变量为全局变量，声明后的全局变量可以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所有语句访问（函数内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除外），当程序执行到程序末尾的时候，全局变量才被自动回收。全局变量也可应用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所引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函数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要访问全局变量，需要在函数内定义的变量名前加关键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oba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时函数内局部变量变为全局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生存周期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ic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内定义的变量生存周期是短暂的：每一次函数调用的开始到这一次函数调用的结束。有时希望函数中的变量能够从这次调用一直存活到下次调用，此时需要在该变量前加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ti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字一般在函数定义中使用，用于修饰局部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函数类似于可变变量，变量函数的函数名为变量。使用变量函数可以实现通过改变变量的值的方法调用不同的函数。变量函数的调用方法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rName(param1Value, param2Value,param3Value,…paramn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4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综合示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-108000" y="1125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上传功能的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ploa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8080" y="1628640"/>
            <a:ext cx="8856720" cy="520452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unction upload($file,$filePath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error = $file['error'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witch ($error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0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fileName = $file['name'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fileTemp = $file['tmp_name'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$destination = $filePath."/".$file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ve_uploaded_file($fileTemp,$destinatio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文件上传成功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1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上传附件超过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hp.in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中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pload_max_filesiz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选项限制的值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2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上传附件的大小超过了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r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表单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X_FILE_SIZ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选项指定的值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3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附件只有部分被上传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se 4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 "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没有选择上传附件！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?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5 return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语言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首先结束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，然后将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结果返回给引用程序，程序的执行流程跳转到引用程序。如果没有引用程序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直接结束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控制程序的流程时，通常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被引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使用，程序执行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后，将运算结果返回给引用程序，并将控制转交给引用程序。被引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将不再执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5 return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语言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作控制语句时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间的区别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结束所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（包括引用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）的运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会结束被引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，不会结束引用者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，并且被引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向引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返回一个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文件间的引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函数概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定义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4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自定义函数综合示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7-5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return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语言结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文件间的引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include(string re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将一个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入到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。字符串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资源文件的文件名，该资源可以是本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资源，如图片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面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面等，也可以是互联网上的资源。若找不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找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返回值时，返回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返回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文件间的引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及功能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相同，只不过两者之间存在着细微的区别。在错误处理方面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，如果被引用文件发生错误或不能找到被引用文件，引用文件将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ni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然后继续执行下面的语句。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，如果被引用文件发生错误或不能找到被引用文件，引用文件将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ni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tal err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命错误信息然后终止程序运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文件间的引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分别对应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可以有效避免多次引用同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而引起函数或变量的重复定义问题的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include_once (string re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将一个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载入到当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。若找不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找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该资源文件第一次载入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返回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找到资源文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our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该资源文件已经载入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函数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设计中，可以将经常使用的代码段独立出来，形成单独的子程序，这些子程序就是函数。函数只需要定义一次，之后便可以重复使用，故可以增强了代码的重用性。一般而言，函数的功能较为单一，因此函数的编写和维护比较容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函数概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种类和变量种类的划分方法相似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有三种类型的函数：内置函数、自定义函数和变量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置函数类似于预定义变量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置函数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预定义好的函数，这些函数在编程时无需定义，可以直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类似于自定义变量，由程序员根据特定需要编写出来的代码段。和内置函数不同，自定义函数只有在定义之后才可以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函数类似于可变变量，变量函数的函数名为一个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种类型的函数都有一个共同特点：调用函数时，函数名大小写不敏感，例如：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d5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D5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实质上是调用同一个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定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定义自定义函数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 functionName($param1, $param2, $param3,…$paramn=defaultValue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自定义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定义函数的声明和调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用自定义函数时需要注意：应该先声明自定义函数，然后才可以在调用处使用如下方式调用自定义函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unctionName(param1Value, param2Value,param3Value,…paramn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函数的定义和函数的调用位于不同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时，需要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clude_on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ire_onc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引用函数定义所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，这个过程称为函数的声明。当函数的定义和函数的调用位于同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时，此时无须函数的声明即可直接调用自定义函数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51Z</dcterms:modified>
  <cp:revision>270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