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CD6-D880-4A51-AFCF-ACCC326B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1D97-EDCA-459E-A600-028027BD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6F1-F0DD-49BD-8707-D4ED903E5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9F37-4E98-43A8-9908-B98EFF53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394-448C-4806-A962-CC7D9509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C832-C6B6-496B-AD96-70D081DB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CF9-919A-48D5-AD3C-8459415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103E-67AA-4FC3-9B63-94B568E2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CDB-B6FE-48BC-8870-49AD1710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88A-4FAC-468E-B5E5-CF17DCF3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7D1-CB41-467D-B3B9-AF0CDA0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F45-183C-438A-8F76-AAA29A0E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452A-9C85-4FFF-8188-E4EBB0E2AEE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1125360"/>
            <a:ext cx="827892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MySQL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straint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约束条件有六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唯一性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niq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值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空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 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检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ec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约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启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习第一章的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带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，也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（简称为命令提示符窗口），还可以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（例如使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MyAdm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访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），甚至还可以是第三方客户机程序（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Workbenc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。本书只讲解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带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以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行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提示符窗口作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后，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打开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连接，才能实现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之间的交互，如图所示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机连接命令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 -h 127.0.0.1 -P 3306 -u root 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013440" y="2778120"/>
          <a:ext cx="3238560" cy="15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3440" y="2778120"/>
                    <a:ext cx="3238560" cy="15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0" name="图片 112" descr=""/>
          <p:cNvPicPr/>
          <p:nvPr/>
        </p:nvPicPr>
        <p:blipFill>
          <a:blip r:embed="rId3"/>
          <a:stretch/>
        </p:blipFill>
        <p:spPr>
          <a:xfrm>
            <a:off x="108000" y="4294080"/>
            <a:ext cx="61340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3 MySQL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简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检查和修复表格的大多数工具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可以被压缩，而且支持全文搜索，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不是事务安全的，而且也不支持外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如果某个数据库表需要执行大量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出于性能方面的考虑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更好的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事务安全的，并且它还支持外键，如果需要一个事务安全的存储引擎，建议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某个数据库表需要执行大量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出于事务安全方面的考虑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引擎是更好的选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5.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存储引擎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ISA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更为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o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人类语言最小的表义符号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B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定一系列字符，对每个字符赋予一个数值，用数值来代表对应的字符，这个数值就是字符的编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 Encoding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定一系列字符并赋予对应的编码后，所有这些字符和编码对组成的集合就是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aracter Set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提供了多种字符集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tf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ollatio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指在同一字符集内字符之间的比较规则。只有确定字符序后，才能在一个字符集上定义什么是等价的字符，以及字符之间的大小关系。每个字符序唯一对应一种字符集，一个字符集可以对应多种字符序，其中有一个是默认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efault Collatio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序命名规则：以字符序对应的字符集名称开头，以国家名居中（或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nera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居中），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末尾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对应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swedish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spanish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_german1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字符序。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大小写不敏感；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大小写敏感；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尾的字符序表示按编码值比较。例如在字符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_general_ci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则中，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A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等价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字符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客户端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）的字符集（未加说明的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atin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连接层字符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data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当前选中数据库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file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文件系统的字符集，默认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结果集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字符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元数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、表名、数据库名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，默认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tf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集转换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140" descr=""/>
          <p:cNvPicPr/>
          <p:nvPr/>
        </p:nvPicPr>
        <p:blipFill>
          <a:blip r:embed="rId1"/>
          <a:stretch/>
        </p:blipFill>
        <p:spPr>
          <a:xfrm>
            <a:off x="174600" y="1765440"/>
            <a:ext cx="88646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的设置有三种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可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的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lient]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组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-character-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的默认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存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这些字符集将在新打开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客户机中生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ampmysqld]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项组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datab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默认值修改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存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.in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置文件，重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，这些字符集将在新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进程中生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概述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的设计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简介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4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集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5 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管理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6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据库表的管理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7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表记录的更新操作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8  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表记录的查询操作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8-9  MySQL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特殊字符序列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下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可以“临时地”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会话的”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client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connection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database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results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character_set_server = gb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：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 names gbk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性地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li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connectio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_resul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符集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上编辑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很不方便的，更多时候需要将常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封装为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，然后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上运行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中的所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的扩展名一般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窗口中输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：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. C:\wamp\www\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init.sq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urce C:\wamp\www\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init.sq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可执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it.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5 MySQL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当前操作的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数据库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 tab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 table table_name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umn_name1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lumn_namen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束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数据类型，分别是数值类型、字符串类型和日期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类型之整数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值类型之精确小数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cimal(size,d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最大位数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设置精度（小数点后的位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定长字符串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变长字符串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类型之文本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类型之日期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期类型之日期时间类型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附加属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提供了一些附加属性用于修饰数据类型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附加属性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意义为“没有值”或“不确定的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需要为某个表的某个字段进行唯一编号，以标识每条记录，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可以将该字段设置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uto_incr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自动增长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据库表的顺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创建父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创建子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538632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数据库表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scrib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ow create tabl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表的管理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数据库表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rop table table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，数据库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存储、管理数据的容器；严格地说，数据库是“按照某种数据结构对数据进行组织、存储和管理的容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观上，数据库中的二维表（简称数据库表）和电子表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相同的。数据库表是由列和行构成，数据库表中的一列称为一个字段，每个字段用于存储某种数据类型的数据；数据库表中的一行称为一条记录，每条记录包含表中的一条详细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46200" y="4795920"/>
          <a:ext cx="7201080" cy="201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4795920"/>
                    <a:ext cx="72010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1052640"/>
            <a:ext cx="8424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添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sert into table_name [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]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s 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列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052640"/>
            <a:ext cx="84247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修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date table_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t column_name = new_valu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, next_column = new_value2…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 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更新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052640"/>
            <a:ext cx="8424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记录的删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  from  table_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 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whe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滤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group by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组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having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组过滤条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order by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排序表达式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asc|desc]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05264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字段列表及列别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version()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号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w() as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当前时间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() PI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谓词限制记录的行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stin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滤重复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用于查询数据库表中指定字段的所有数据，但是有时会出现重复信息。如果只希望查询那些具有不同记录值的记录信息，可以使用谓词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stin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distinct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谓词限制记录的行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某几行记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时，经常要返回前几条或者中间某几行记录，可以使用谓词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 [start,]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受一个或两个整数参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从第几行记录开始输出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输出的记录行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中第一行记录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是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将两个表中满足指定连接条件的记录连接成新的记录集，舍弃所有不满足连接条件的记录。内连接是最常用的连接类型，可以通过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中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[innert] join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on &lt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间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内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n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下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功能选项中的哪一个功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连接只限制一个表，对另一个表不加限制（该表的所有记录出现在结果集中）。外连接又分为左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ft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右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ight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左连接的语法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left 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o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连接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数据库管理系统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DBMS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数据库用户而言，“数据库管理系统”是数据库用户维护数据库的接口。主流的数据库管理系统仍然是关系数据库管理系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DBM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lational database management syste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数据库管理系统就是管理关系数据库的软件系统。关系数据库管理系统主要功能就是创建关系数据库，并且在关系数据库中创建各种数据库对象（表、索引、视图、存储过程等）以及维护各个数据库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初学者而言，关系数据库管理系统最重要的功能莫过于创建数据库、创建数据库表以及完成数据库表记录的添加、修改、删除和查询等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左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三个功能选项中的哪一个功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lef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052640"/>
            <a:ext cx="87138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指定多个数据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外连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uter joi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右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right  joi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 on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连接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完成三个功能选项中的哪一个功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student_id, student_no,student_name,classes.class_id,class_no,class_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 student right join classes on student.class_id=classes.class_i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分配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学生对应的班级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选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检索所有班级的学生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05264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过滤记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05264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der b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对记录排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der by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[asc|desc]  [… 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名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 [asc|desc]  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聚合函数返回汇总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累加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v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平均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统计记录的行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最大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计算字段的最小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表记录的查询操作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052640"/>
            <a:ext cx="8424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roup b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对记录分组统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roup by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ving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句提取符合条件的分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aving &lt;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询条件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9 MySQL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特殊字符序列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979640" y="1484280"/>
          <a:ext cx="5483160" cy="4052880"/>
        </p:xfrm>
        <a:graphic>
          <a:graphicData uri="http://schemas.openxmlformats.org/drawingml/2006/table">
            <a:tbl>
              <a:tblPr/>
              <a:tblGrid>
                <a:gridCol w="3043080"/>
                <a:gridCol w="2440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MySQ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中的特殊字符序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义后的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双引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"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引号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'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反斜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\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换行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回车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制表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0 (NUL)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8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退格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\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_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查询语言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构化查询语言的英文全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uctured query languag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简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应用广泛的关系数据库语言，用于定义和管理关系数据库中的各种对象（表、索引、视图、存储过程等），也可以用于查询、修改和删除数据库表中的记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设计一般要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开始，之后的步骤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实体建立一张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表选择一个主键（建议添加一个没有实际意义的字段作为主键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增加外键以表示一对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建立新表表示多对多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定义约束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评价关系的质量，并进行必要的改进（关于范式等知识请参考其他数据库书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每个字段选择合适的数据类型和取值范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tity-Relationshi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模型即实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系模型主要用于定义数据的存储需求，该模型已经广泛用于关系数据库设计中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由实体、属性和关系三个基本要素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2560" y="3079800"/>
          <a:ext cx="7345440" cy="35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079800"/>
                    <a:ext cx="7345440" cy="35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表要求表中的每一行记录都必须是唯一的，即在同一张表中不允许出现完全相同的两条记录。在设计数据库时，为了保证记录的“唯一性”，最为普遍、最为推荐的做法是为表定义一个主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ary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数据库表中主键有以下两个特征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表的主键可以由一个字段构成，也可以由多个字段构成（这种情况称为复合主键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表中主键的值具有唯一性且不能取空值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当数据库表中的主键由多个字段构成时，每个字段的值不能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据库的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052640"/>
            <a:ext cx="41036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体间的关系与外键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体间的关系可以通过外键来表示。如果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一个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于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主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外键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ign 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此时存储在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字段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，要么是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么是来自于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键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通过外键可以表示实体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995640" y="1268280"/>
          <a:ext cx="73375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268280"/>
                    <a:ext cx="73375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59Z</dcterms:modified>
  <cp:revision>51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