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D93-1B3A-4678-9AC4-5C78C7E0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1D2-D9D4-41E5-BE80-0115CF42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27C-824E-4095-BDF8-7F51E339D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E8C7-685B-45BD-929C-4CA0086D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C32B-FC26-433D-BFF5-42ABD0C8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EF58-1B65-4BFA-A0AA-158FACEF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10E8-EE49-432F-891B-08E0938F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7D23-9BD0-40DF-BC70-7BE4C430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0B7-4DC6-4887-A661-43746D27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5F2-84D2-45AA-B0DD-2CBB368A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796-E214-4BF3-8250-BFDB7999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ADB-4AF7-43EC-ADED-CD40C565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65A1-FC49-4A64-BEFD-3BE5D8B9E92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800" y="1125000"/>
            <a:ext cx="82058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9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与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ySQL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052640"/>
            <a:ext cx="8424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num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还可以向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引擎发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此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返回一个结果集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据，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num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查看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查询到的表记录行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num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num_rows ( resource resul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num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记录的行数，该函数仅对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有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052640"/>
            <a:ext cx="8424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集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使用过后，应该尽快地将其占用的服务器内存资源释放，可以使用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mysql_free_result ( resource resul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函数功能：释放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用的服务器内存资源。若执行成功，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052640"/>
            <a:ext cx="84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还可以向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引擎发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li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onnectio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result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字符集设置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052640"/>
            <a:ext cx="84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结果集中的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row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mysql_fetch_row ( resource resul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row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从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取得下一行记录，并将该记录生成一个数组，数组的元素的键为从零开始的整数，数组元素的值依次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中“字段列表”的值。若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没有下一行记录，则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052640"/>
            <a:ext cx="8424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结果集中的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arra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mysql_fetch_array ( resource resul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arra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该函数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row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扩展版本，该函数的返回值中除了包含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row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返回值，还包含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中“字段列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&gt;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列表值”的数组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52640"/>
            <a:ext cx="84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与关闭最佳时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1630440"/>
            <a:ext cx="8928000" cy="414324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 student_query(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erverLink = @mysql_connect("localhost","root","") or die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服务器失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断执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dbLink = @mysql_select_db("student") or die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当前数据库失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断执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electSQL = "select * from student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resultSet = mysql_query($selectSQL) or die(mysql_error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($student = mysql_fetch_array($resultSet)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id']."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no']."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name'].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$resultS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$serverLin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udent_que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udent_que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6920" y="2133720"/>
            <a:ext cx="7993080" cy="41432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 student_query(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electSQL = "select * from student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resultSet = mysql_query($selectSQL) or die(mysql_error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($student = mysql_fetch_array($resultSet)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id']."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no']."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tudent['student_name'].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$resultS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erverLink = @mysql_connect("localhost","root","") or die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服务器失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断执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dbLink = @mysql_select_db("student") or die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当前数据库失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断执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udent_que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udent_query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$serverLin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052640"/>
            <a:ext cx="8424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与关闭函数的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080" y="1844640"/>
            <a:ext cx="8604000" cy="4569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databaseConnection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 getConnection(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hostname = "localhost"; 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主机名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用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database = "users"; 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 = "root"; 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用户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 = ""; 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密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lobal $databaseConnec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databaseConnection = @mysql_connect($hostname, $userName, $password) or die(mysql_error()); 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数据库服务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;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字符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@mysql_select_db($database, $databaseConnection) or die(mysql_error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 closeConnection(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lobal $databaseConnec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$databaseConnection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$databaseConnection) or die(mysql_error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表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list_table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tablenam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068640"/>
            <a:ext cx="8064360" cy="24382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erver_link = @mysql_connect("localhost","root","") or die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服务器失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断执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resultSet = @mysql_list_tables("student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($i = 0; $i &lt; mysql_num_rows($resultSet); 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 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%s&lt;br/&gt;", mysql_tablename($resultSet, $i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ree_result($resultSe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$server_link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当前操作的数据库并发送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db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字段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num_field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num_fields ( resource resul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取得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字段的数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nam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ysql_field_name ( resource result, int field_inde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取得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指定字段的字段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nam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指定字段索引的字段名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eld_index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该字段的数字偏移量，该偏移量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9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中常用的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操作函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9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中其它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操作函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9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用户注册系统的实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9-4 SQL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注入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字段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nam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ysql_field_name ( resource result, int field_index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取得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指定字段的字段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nam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指定字段索引的字段名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eld_index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该字段的数字偏移量，该偏移量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字段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typ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ysql_field_type ( resource result, int field_offse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取得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指定字段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type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指定字段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eld_offse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该字段的数字偏移量，该偏移量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len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field_len ( resource result, int field_offse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指定字段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字段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ield_flag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ysql_field_flags ( resource result, int field_offse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从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取得和指定字段关联的标志。每个标记对应一个单词，之间用一个空格分开。这些标记有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not_null", "primary_key", "unique_key", "multiple_key", "blob", "unsigned", "zerofill", "binary", "enum", "auto_increment", "timestamp"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052640"/>
            <a:ext cx="8820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fetch_length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mysql_fetch_lengths ( resource resul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每个字段内容的长度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52640"/>
            <a:ext cx="8820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resul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mysql_result ( resource result, int row [, mixed field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结果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一个字段的字段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052640"/>
            <a:ext cx="8820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errno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errno ( [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的错误代码，如果没有出错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零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errno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仅返回最近一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错误代码，因此应该尽早地调用该函数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其它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erro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ysql_error ( [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产生的错误文本信息，如果没有出错则返回””空字符串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erro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仅返回最近一次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错误文本信息，因此应该尽早地调用该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3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用户注册系统的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052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系统文件组织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界面的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实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用户注册系统所需的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功能的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登录页面的实现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登录功能的简单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测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4 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注入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05264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配置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.in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设置为关闭时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 = Off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用用户名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’‘=’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密码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’‘=’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系统时，系统永远可以登录成功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一些非法用户就可以乘虚而入，成功登陆系统，这就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Injectio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入产生的原因是由于某些特殊字符打乱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本身的逻辑，使数据库服务器引擎错误的执行了某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4 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注入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05264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引擎不会自动过滤特殊字符，因此防止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入发生的方法是：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过滤特殊字符。以用户注册系统为例，有两种解决方案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一：当配置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.in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设置为关闭时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 = Off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ddslashe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E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交方式提交的特殊字符转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二：将配置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.in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设置为开启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 = O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会自动将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E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交方式提交的特殊字符转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方案二仅适用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5.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前的版本。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5.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开始，配置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.in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gic_quotes_gp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必须设置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ff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连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最简单的函数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onnec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 mysql_connect (string hostname,string username,string passwor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通过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连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。如果成功连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，则返回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标识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052640"/>
            <a:ext cx="8424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数据库字符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"set names 'gbk'"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li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onnectio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result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字符集设置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052640"/>
            <a:ext cx="8424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mysql_close( [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los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关闭指定的连接标识所关联到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的连接。如果没有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关闭上一个打开的连接。如果关闭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失败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052640"/>
            <a:ext cx="8424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当前操作的数据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select_db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设置当前操作的数据库，该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mysql_select_db ( string database_name [, 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如果没有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标识符，则使用上一个打开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。如果没有打开的连接，本函数将无参数调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connec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尝试打开一个新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然后使用它。如果选择当前操作的数据库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05264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bool|resouce} mysql_query ( string sql [, 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如果没有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标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使用已打开的连接。然后向数据库引擎发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）。当发送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执行失败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并且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成功执行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并且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成功执行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结果集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类型的数据（实际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型的数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052640"/>
            <a:ext cx="84247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affected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向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引擎发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后，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affected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查看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影响到的表记录行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affected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affected_rows ( [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affected_row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取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近一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联的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所影响的记录行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-1 PHP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中常用的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MySQL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操作函数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052640"/>
            <a:ext cx="842472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insert_i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quer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发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向某个数据库表中添加记录时，若该数据库表中的某个字段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uto_incr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增字段，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insert_i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得到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执行后的该字段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insert_i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ysql_insert_id ( [resource link_identifier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insert_i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_insert_i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给定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一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产生的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uto_incr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；如果没有指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nk_identifi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使用上一个打开的连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7:06Z</dcterms:modified>
  <cp:revision>484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