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5.png" ContentType="image/png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602D-E557-4A3F-A3A9-00082EFBE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8D7C-1039-4097-9051-3CCFA40F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178C-6754-47FB-9B8C-4480EE2FB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A380-AD59-4600-8DD9-2B19FFFF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2E65-5CEE-4797-9E3D-EA2C7B1E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D8DE-30AE-4FB8-A4F6-879AAE63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50F8-1216-4D39-995F-6FCFD4CA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B6FF-5434-43D9-B334-DF3E6E1D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100F-6514-4507-8E9C-990134D9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0BA9-E2AC-4D03-8678-5CC2C374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BFDE-B75B-49A7-8C39-012DB604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3978-EDA4-4483-88D3-17CBD766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3E20-553A-47C9-AC09-BA7B6109DD5A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49440" y="6491160"/>
            <a:ext cx="26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PHP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编程基础与实例教程</a:t>
            </a: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(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第二版</a:t>
            </a: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0160" y="1125360"/>
            <a:ext cx="852948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zh-CN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编程基础与实例教程</a:t>
            </a:r>
            <a:r>
              <a:rPr b="1" lang="zh-CN" sz="2800" spc="-1" strike="noStrike" baseline="100000">
                <a:solidFill>
                  <a:srgbClr val="ff9900"/>
                </a:solidFill>
                <a:latin typeface="楷体_GB2312"/>
                <a:ea typeface="楷体_GB2312"/>
              </a:rPr>
              <a:t>第二版</a:t>
            </a:r>
            <a:br>
              <a:rPr sz="5400"/>
            </a:br>
            <a:r>
              <a:rPr b="1" lang="en-US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 Fundamentals &amp; Practices</a:t>
            </a:r>
            <a:r>
              <a:rPr b="1" lang="en-US" sz="1600" spc="-1" strike="noStrike" baseline="100000">
                <a:solidFill>
                  <a:srgbClr val="ff9900"/>
                </a:solidFill>
                <a:latin typeface="Times New Roman"/>
                <a:ea typeface="楷体_GB2312"/>
              </a:rPr>
              <a:t>2nd Edition</a:t>
            </a:r>
            <a:endParaRPr b="1" lang="en-US" sz="16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458136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第 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0</a:t>
            </a: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章 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新闻发布系统的开发  </a:t>
            </a:r>
            <a:endParaRPr b="0" lang="en-US" sz="36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6147360" y="378936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主讲：孔祥盛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3 </a:t>
            </a:r>
            <a:r>
              <a:rPr b="1" lang="zh-CN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的系统分析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052640"/>
            <a:ext cx="842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字典（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ata Dictionary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字典用于描述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-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型以及数据流程图中使用的元数据，是对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-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型以及数据流程图的补充和完善。数据字典可以描述的元数据包括数据项、数据流、数据存储、外部实体、数据加工和数据结构，这些描述按照一定的规则组织起来便构成了数据字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448000" y="3441600"/>
          <a:ext cx="5292720" cy="337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8000" y="3441600"/>
                    <a:ext cx="5292720" cy="33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80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4 </a:t>
            </a:r>
            <a:r>
              <a:rPr b="1" lang="zh-CN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的系统设计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105264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流程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流程图描述了系统内计算机程序之间所有控制流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22280" y="2349360"/>
          <a:ext cx="8721720" cy="43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2280" y="2349360"/>
                    <a:ext cx="8721720" cy="43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80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4 </a:t>
            </a:r>
            <a:r>
              <a:rPr b="1" lang="zh-CN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的系统设计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105264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流程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流程图描述了系统内计算机程序之间所有控制流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0" y="2276640"/>
          <a:ext cx="6454800" cy="425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76640"/>
                    <a:ext cx="6454800" cy="42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796000" y="2363760"/>
          <a:ext cx="2801880" cy="4449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6000" y="2363760"/>
                    <a:ext cx="2801880" cy="44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3 </a:t>
            </a:r>
            <a:r>
              <a:rPr b="1" lang="zh-CN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的系统设计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105264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物理设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353960" y="1628640"/>
            <a:ext cx="488952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3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的系统设计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05264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形用户界面设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47640" y="1989000"/>
          <a:ext cx="5742000" cy="35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989000"/>
                    <a:ext cx="5742000" cy="35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5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系统实施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05264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件组织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的实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568680" y="1557360"/>
            <a:ext cx="50356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5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系统实施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052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闻管理和评论管理功能的实施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6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分页原理及实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页原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案一：在浏览器端实现分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点：效率最为缓慢，消耗大量服务器资源和网络资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案二：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端实现分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点：效率较为缓慢，消耗一定的服务器资源和网络资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案三：在数据库服务器端实现分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点：效率较为快捷，消耗最少的服务器资源和网络资源，这里我们使用该方案实现分页技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28800" y="4762440"/>
            <a:ext cx="616428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6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分页原理及实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052640"/>
            <a:ext cx="8424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页的最简单实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管使用哪种分页方案，程序员需要设置每页多少条记录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page_siz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例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page_size = 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器用户需要指定要访问第几页的数据，即当前是第几页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page_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通常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R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提供了该信息，例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ews_list.php?page_current=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服务器端实现分页需要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的谓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imi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语法格式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imit [start,]lengt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ength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值等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page_siz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量的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ar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值可由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page_curren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page_siz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变量推算得出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$page_current-1)*$page_siz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6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分页原理及实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052640"/>
            <a:ext cx="8424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有“分页导航条”分页实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百度搜索引擎”分页导航条，该分页导航条除了包含上面两个信息外，还包含了其他信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共多少条记录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$total_record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：该信息可以使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SQ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语句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select * from table_name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函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mysql_num_rows(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获取（或使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SQ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语句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select count(*) from table_name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函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mysql_fetch_array(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获取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总共多少页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$total_page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$total_page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可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eil($total_records/$page_size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计算得出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eil (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函数语法格式为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float ceil (float val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ceil (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函数功能：返回不小于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value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下一个整数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valu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如果有小数部分则进一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03640" y="2349360"/>
            <a:ext cx="3529080" cy="5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本章大纲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0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新闻发布系统开发流程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0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2 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新闻发布系统的系统规划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0-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3 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新闻发布系统的系统分析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0-4 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新闻发布系统的系统设计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0-5 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新闻发布系统的系统实施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0-6 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分页原理及实现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0-7 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新闻发布系统软件测试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0-8 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新闻发布系统系统支持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6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分页原理及实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1052640"/>
            <a:ext cx="8424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有“分页导航条”分页实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上一页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$page_previou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：该信息可由下面的方法计算得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$page_previous = ($page_current&lt;=1)?1:$page_current-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下一页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$page_nex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：该信息可由下面的代码段计算得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$page_next = ($page_current&gt;=$total_pages)?$total_pages:$page_current+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$page_next = ($page_next==0)?1:$page_next;/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没有记录时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$page_nex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最小值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6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分页原理及实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1052640"/>
            <a:ext cx="842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有“分页导航条”分页实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置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navigato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量存储分页导航条字符串信息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$navigato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值可由下面的方法计算得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0360" y="3213000"/>
            <a:ext cx="8532720" cy="26514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$url = $_SERVER['PHP_SELF'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$navigator = "&lt;a href=$url?page_current=$page_previous&gt;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上一页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&lt;/a&gt;  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$page_start = ($page_current-5&gt;0)?$page_current-5: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$page_end = ($page_start+10&lt;$total_pages)?$page_start+10:$total_pag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$page_start = $page_end-1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if($page_start&lt;0) $page_start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for($i=$page_start;$i&lt;$page_end;$i++)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$j = $i+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$navigator.="&lt;a href='$url?page_current=$j'&gt;$j&lt;/a&gt;  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$navigator.="&lt;a href=$url?page_current=$page_next&gt;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下一页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&lt;/a&gt;&lt;br/&gt;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$navigator.= "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共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".$total_records."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条记录，共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".$total_pages."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页，当前是第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".$page_current."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页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6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分页原理及实现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052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显示分页导航条的函数制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7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软件测试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1052640"/>
            <a:ext cx="842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测试用例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est case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单元测试为例，单元测试的关键是如何确定测试用例，而这个过程是一段枯燥而且耗时的过程。测试用例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est cas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是可以被独立执行的一个过程，这个过程是一个最小的测试实体，不能再被分解。测试用例也就是为了某个测试点而设计的测试操作过程序列、条件、期望结果及其相关数据的一个特定的集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件测试的过程实际上就是设计测试用例、执行测试用例的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80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7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软件测试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1628640"/>
            <a:ext cx="6624360" cy="47574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示例：书写规范的测试用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ID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00610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用例名称：验证新闻附件是否可以成功进行文件下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测试项：新闻附件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a+b.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环境要求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Windows XP SP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IE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参考文档：需求文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优先级：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依赖的测试用例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0061000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（新闻信息添加测试用例）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0061000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（新闻详细信息浏览测试用例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步骤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．打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IE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浏览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．在地址栏中输入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http://localhost/news/news_detail.php?news_id=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．点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a+b.tx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超链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期望结果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．出现文件下载对话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实际运行结果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．提示用户“文件不存在或已删除”信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8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系统支持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0526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系统投入使用后所涉及到的活动为系统支持。系统支持的主要任务完善系统文档，编写用户文档，并组织用户培训。由于新闻发布系统功能较为简单，且界面单一容易使用，系统支持阶段这里不再阐述，至此，新闻发布系统的主要功能开发完毕，其他功能模块的开发相信读者可以自行完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图片 4" descr="未命名"/>
          <p:cNvPicPr/>
          <p:nvPr/>
        </p:nvPicPr>
        <p:blipFill>
          <a:blip r:embed="rId1"/>
          <a:stretch/>
        </p:blipFill>
        <p:spPr>
          <a:xfrm>
            <a:off x="54000" y="263520"/>
            <a:ext cx="9042480" cy="61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1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开发流程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05264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IS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开发流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闻发布系统的开发流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2 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的系统规划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052640"/>
            <a:ext cx="84247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闻发布系统的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闻发布系统的可行性分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闻发布系统的项目进度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闻发布系统的人员分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3 </a:t>
            </a:r>
            <a:r>
              <a:rPr b="1" lang="zh-CN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的系统分析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05264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闻发布系统的功能需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4920" y="1600200"/>
          <a:ext cx="9109080" cy="4971960"/>
        </p:xfrm>
        <a:graphic>
          <a:graphicData uri="http://schemas.openxmlformats.org/drawingml/2006/table">
            <a:tbl>
              <a:tblPr/>
              <a:tblGrid>
                <a:gridCol w="1658880"/>
                <a:gridCol w="2014560"/>
                <a:gridCol w="1008000"/>
                <a:gridCol w="1508400"/>
                <a:gridCol w="1947600"/>
                <a:gridCol w="9716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事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触发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来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动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响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目的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添加新闻类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添加新闻类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添加新闻类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新闻类别列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修改新闻类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择要修改的新闻类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修改新闻类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新闻类别列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删除新闻类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择要删除的新闻类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删除新闻类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新闻类别列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普通用户查看所有新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查看所有新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普通用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查看所有新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新闻标题列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普通用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添加新闻信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添加新闻信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添加新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新闻标题列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修改新闻信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择要修改的新闻标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修改新闻信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新闻标题列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删除新闻信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择要删除的新闻标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删除新闻信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新闻标题列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普通用户按关键字查看所有相关新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查看关键字相关的所有新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普通用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查看关键字相关的所有新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关键字相关的所有新闻标题列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普通用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普通用户查看某条新闻详细信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择要查看的新闻标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普通用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显示新闻的详细信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新闻详细信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普通用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普通用户下载某条新闻的附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择要下载的附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普通用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下载该新闻的附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文件下载对话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普通用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普通用户对某条新闻发表评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择要发表评论的新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普通用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发表某条新闻的评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新闻标题列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普通用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审核最近的评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查看所有评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查看所有评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新闻评论列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删除某条评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择要删除的评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删除新闻评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新闻评论列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普通用户登录系统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填入管理员用户信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普通用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登录系统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登录成功信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注销退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择注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管理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注销系统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注销成功信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普通用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3 </a:t>
            </a:r>
            <a:r>
              <a:rPr b="1" lang="zh-CN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的系统分析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05264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闻发布系统的技术需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的技术需求分为：软件技术需求、硬件技术需求和性能技术需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3 </a:t>
            </a:r>
            <a:r>
              <a:rPr b="1" lang="zh-CN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的系统分析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05264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闻发布系统中使用的模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4360" y="2133720"/>
          <a:ext cx="4429080" cy="10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133720"/>
                    <a:ext cx="442908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900000" y="4076640"/>
          <a:ext cx="4305240" cy="1552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4076640"/>
                    <a:ext cx="43052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9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3 </a:t>
            </a:r>
            <a:r>
              <a:rPr b="1" lang="zh-CN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的系统分析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105264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闻发布系统的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-R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00000" y="1785960"/>
          <a:ext cx="5759640" cy="507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85960"/>
                    <a:ext cx="575964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80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0-3 </a:t>
            </a:r>
            <a:r>
              <a:rPr b="1" lang="zh-CN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新闻发布系统的系统分析</a:t>
            </a:r>
            <a:endParaRPr b="1" lang="en-US" sz="40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05264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闻发布系统的数据流程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流程图由四部分组成：外部实体、处理过程、数据存储和数据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15:03:45Z</dcterms:created>
  <dc:creator>孔祥盛</dc:creator>
  <dc:description/>
  <cp:keywords/>
  <dc:language>en-US</dc:language>
  <cp:lastModifiedBy>微软用户</cp:lastModifiedBy>
  <dcterms:modified xsi:type="dcterms:W3CDTF">2016-05-25T08:47:14Z</dcterms:modified>
  <cp:revision>459</cp:revision>
  <dc:subject/>
  <dc:title>PHP编程基础与实例教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